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0E2A-8792-4AB0-A930-CF58BAF4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9AB4-F433-438E-AA6C-3F5ED8DA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6D07-FA88-45C4-81D6-672FE1815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A9C9-50B4-4BA4-974B-0DABAE95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BACB-D00F-4BC3-AB06-B0B66F10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9246-2C8E-4539-911E-31A544CA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A47F-A53D-4E58-9E5B-E07AFB12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5D34-7540-4FCD-AFA4-BC9970C2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63D6-1AD0-4BB5-B72F-6A23D625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88B8-D99F-435C-B049-E45C6F71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9B2D-F4FD-45A1-BB08-CCDBAC18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FE35-B656-4B23-8DD9-21F5C04F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9B8D-CE3A-4E62-8326-F28122DC7F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ift Up Thy Bleeding Hand</a:t>
            </a:r>
            <a:br>
              <a:rPr sz="3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ecil Alexander alt. Andrew Osenga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sic: Andrew Osenga   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©2005 The Velvet Eagle Sings (ASCAP) 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wounded sore, the stricken he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es bleeding and unbou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e only hand, a pierced ha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salve the sinner's wou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sorrow swells the laden brea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ears of anguish flo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e only heart, a broken he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feel the sinner's wo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ft up Thy bleeding hand, O Lo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seal that cleansing tid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have no shelter from our s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in Thy wounded s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penitential grief has wep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'er some foul dark spo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e only stream, a stream of blo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wash away the blo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s Jesus' blood that washes whit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hand that brings relief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heart that's touched with all our joy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feels for all our grief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ft up Thy bleeding hand, O Lo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seal that cleansing tid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have no shelter from our s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in Thy wounded s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5T17:50:16Z</dcterms:modified>
  <cp:revision>4</cp:revision>
  <dc:subject/>
  <dc:title>Let Us Love and Sing and Wonder ©2001 Laura Taylor Music. Words: John Newton. Music: Laura Taylor.</dc:title>
</cp:coreProperties>
</file>