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778-7A04-4A17-9782-261C43C5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D14-A469-4494-8A4F-510F790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2CE-E58C-454A-8771-CBB6DA1D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AEE-47AC-4473-9ED6-61045CF8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0CE-9402-4287-9FFF-B57EB8FE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C69-FADF-472C-932C-8BBE136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CA6-2CA5-41AC-88ED-3668910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314-E3BD-4E60-A393-06012C57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8D0-36CA-4931-BFCA-85E73ADF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5DA-6601-4DFD-9ACC-7F1E61F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213-2BF5-4BA4-ABB3-A00E31A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A3C-AE48-481E-967A-482935C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7B79-A85F-4206-8184-38F599D303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ft Up Thy Bleeding Hand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ecil Alexander alt. Andrew Osenga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Andrew Osenga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©2005 The Velvet Eagle Sings (ASCAP)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nded sore, the stricken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s bleeding and unb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nly hand, a pierced h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salve the sinner's w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orrow swells the laden br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ars of anguish f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nly heart, a broken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feel the sinner's wo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Thy bleeding hand, O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seal that cleansing t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no shelter from our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wounded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enitential grief has we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'er some foul dark spo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nly stream, a stream of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wash away the bl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Jesus' blood that washes whi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and that brings rel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eart that's touched with all our jo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ls for all our grie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Thy bleeding hand, O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seal that cleansing t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no shelter from our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wounded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0:16Z</dcterms:modified>
  <cp:revision>4</cp:revision>
  <dc:subject/>
  <dc:title>Let Us Love and Sing and Wonder ©2001 Laura Taylor Music. Words: John Newton. Music: Laura Taylor.</dc:title>
</cp:coreProperties>
</file>