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9ED-D97A-49DF-92EA-CE30EAA4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C5F-FEB6-4C06-B59A-31863D47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8D0-369D-4CE7-8B39-32A0C254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DEC-780C-4D3B-B12E-7F900D1B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6EE-7F52-4F88-B7AA-B1B29236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AEE4-CB54-445E-9620-FB1FE68C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D45-6608-48CC-B655-99778B1C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53D-92EA-4CF7-9466-C8AF2874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C2E9-E80A-4267-9535-E250CB17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EF2-B0B4-40C4-8778-A62A383A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48ED-CF77-4F9D-944E-584E2C77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6AE-50AA-45C8-806E-C2086D0E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3C45-C0F1-4FAB-A8DF-7DEE5BE943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t Us Love and Sing and Wond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2001 Laura Taylor Music. Words: John Newton. Music: Laura Tayl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love and sing and wo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praise the Savior’s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hushed the law’s loud thu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quenched Mount Sinai’s fl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brought us nigh to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love the Lord Who bought 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tied us when enem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lled us by His grace and taught 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ve us ears and gave us ey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presents our souls to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sing though fierce temp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eatens hard to bear us d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Lord, our strong salva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ds in view the conqu’ror’s cr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, Who washed us with His bl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, Who washed us with His bl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, Who washed us with His bl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on will bring us home to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wonder grace and just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and point to mercy’s st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rough grace in Christ our trust 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ice smiles and asks no m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 secured our way to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praise and join the cho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e saints enthroned on hi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they trusted Him before 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their praises fill the s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washed us with Thy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washed us with Thy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washed us with Thy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worthy Lamb of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4T01:01:28Z</dcterms:modified>
  <cp:revision>1</cp:revision>
  <dc:subject/>
  <dc:title>Let Us Love and Sing and Wonder ©2001 Laura Taylor Music. Words: John Newton. Music: Laura Taylor.</dc:title>
</cp:coreProperties>
</file>