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5B4-0151-470C-94F7-7AC46989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C61-20FE-4749-86DD-D50772C6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6DA-B327-448C-BCC4-91B55543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6E7-2D6A-429C-AF5D-A1BCF952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10C-78ED-40BF-ABB7-17257EA4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8C2-6406-472D-8C4E-238654B9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5E3-501D-484A-AB0B-2DD27157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8BF-CF02-41A3-81E0-9664BD6F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F3F-02A9-41EB-AAAC-A010D4EB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44D-1487-4203-A18F-733318B4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0FA-09D4-4F36-8588-B9059F21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555-A16D-4613-8106-F9710453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159A-CF95-48DF-A03F-5BF567BEC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Us Love and Sing and Won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1 Laura Taylor Music. Words: John Newton. Music: Laura Tayl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love and sing and wo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praise the Savior’s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hushed the law’s loud thu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quenched Mount Sinai’s f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brought us nigh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love the Lord Who bought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tied us when enem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ed us by His grace and taught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ve us ears and gave us e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resents our souls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sing though fierce temp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atens hard to bear us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ord, our strong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s in view the conqu’ror’s cr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will bring us home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wonder grace and jus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and point to mercy’s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rough grace in Christ our trust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ice smiles and asks no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secured our way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praise and join the cho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saints enthroned on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y trusted Him before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ir praises fill the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worthy Lamb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4T01:01:28Z</dcterms:modified>
  <cp:revision>1</cp:revision>
  <dc:subject/>
  <dc:title>Let Us Love and Sing and Wonder ©2001 Laura Taylor Music. Words: John Newton. Music: Laura Taylor.</dc:title>
</cp:coreProperties>
</file>