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B1B-D429-4BA8-A9D5-EA7A5FF8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664-8BAF-434A-8097-6602CFBA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9C3-FF53-4A90-BB91-41684146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2DC-4567-4728-92C0-61E25294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3F6-A56D-4A73-A57B-A97F59CD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56C-0AFB-4782-9881-DEFA7901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BDB-A071-4B01-8EAE-AAEB09D8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C29-D113-4473-9C9B-E08B6BCA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2FB-6B94-4FBA-AA20-C515A05E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893-F15B-4F51-872D-5D0A51C8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6F2-97DA-4162-8437-6CDA9A57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62E-0691-4916-A62B-6F87D395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A44F-7A7A-486C-BEE2-CD395DFACA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 Us Love and Sing and Wond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2001 Laura Taylor Music. Words: John Newton. Music: Laura Tayl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love and sing and wo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praise the Savior’s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hushed the law’s loud thu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quenched Mount Sinai’s fl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brought us nigh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love the Lord Who bought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tied us when enem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led us by His grace and taught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ve us ears and gave us ey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presents our souls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sing though fierce temp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atens hard to bear us d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Lord, our strong salv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ds in view the conqu’ror’s cr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 washed us with His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 washed us with His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Who washed us with His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will bring us home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wonder grace and just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and point to mercy’s st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rough grace in Christ our trust 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ice smiles and asks no 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washed us with Hi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 secured our way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praise and join the cho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saints enthroned on hi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they trusted Him before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eir praises fill the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washed us with Thy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washed us with Thy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washed us with Thy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worthy Lamb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4T01:01:28Z</dcterms:modified>
  <cp:revision>1</cp:revision>
  <dc:subject/>
  <dc:title>Let Us Love and Sing and Wonder ©2001 Laura Taylor Music. Words: John Newton. Music: Laura Taylor.</dc:title>
</cp:coreProperties>
</file>