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C0E-7233-468E-A23C-008B25B6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ADE-5BE6-4B48-88C8-AB2FB3A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716-C98B-4E7A-B4AD-42737FEB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FED-B316-42DB-8BDE-15508B63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DD0-5403-4C7F-8432-A5673FE6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B91-0D97-456C-A1ED-98726EA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CF2-E8DF-4520-8221-6BF82F1B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EDA-5770-4F10-8525-1F9127C6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92B-CFCE-4B8F-8344-5E29A564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D2A-3389-4E60-97ED-2AEB495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151-6CD0-40AA-B416-4B474B8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E6C-62BB-4B3A-AE83-009C2AB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DEAE-CACF-4E08-8F04-624666CC7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1 Laura Taylor Music. Words: John Newton. Music: Laura Tayl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the Savior’s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hushed the law’s loud thu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quenched Mount Sinai’s f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brought us nigh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the Lord Who bo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ied us when enem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ed us by His grace and ta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ve us ears and gave us 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resents our souls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sing though fierce temp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ens hard to bear us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rd, our strong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s in view the conqu’ror’s cr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will bring us home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wonder grace and jus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and point to mercy’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rough grace in Christ our trust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smiles and asks no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secured our way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and join the c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saints enthroned on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y trusted Him before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ir praises fill the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worthy Lamb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4T01:01:28Z</dcterms:modified>
  <cp:revision>1</cp:revision>
  <dc:subject/>
  <dc:title>Let Us Love and Sing and Wonder ©2001 Laura Taylor Music. Words: John Newton. Music: Laura Taylor.</dc:title>
</cp:coreProperties>
</file>