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3F0-3473-496A-923B-BC414D9D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E82-E3CB-4788-8D29-B22F6979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85E-10AB-47E9-8DC1-510A0ED5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103-77D5-4B8D-9631-76787F6E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162-615C-4DD1-8517-1A0295F3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79B-18CF-49F2-9945-5FA929F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AF0-43FE-4148-8691-4849C115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372-9D72-4F0F-ABA7-C1A11502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D55-92F3-45C7-82A3-57DDD776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D4F-EDC5-47C5-8F48-532B640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E6F-7D44-4650-AF6A-E5BD3EF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435-1E31-4B02-8672-3BDD33E4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DDBB-8B3D-4886-BBCF-D34A3C4137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Me Find The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achim Neander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Matthew Smith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12  Detuned Radio Music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me here, in grief draw n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ding at Thy throne oh King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each tear, each trembling f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Son of Man I br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Let me find The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Lord of mercy King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down in love, and from ab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Spirit satisf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sought me, Thou hast bought 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y purchase Lord am 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Let me find The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Here on earth and then on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the broken, scarcely spok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ings of my heart to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crying, all the sigh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y child accepted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Let me find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ind Thee, Wounded healer, suffering L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8:53:49Z</dcterms:modified>
  <cp:revision>10</cp:revision>
  <dc:subject/>
  <dc:title>Let Us Love and Sing and Wonder ©2001 Laura Taylor Music. Words: John Newton. Music: Laura Taylor.</dc:title>
</cp:coreProperties>
</file>