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1774-E2F9-438F-85BC-CACD35C8B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823-C924-4C8A-96BC-585C68AD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DFAF-558C-43DB-8852-3A110EB3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7338-B06E-4C4E-807C-C2A908ED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9EA8-3889-442E-800F-AB0B53A5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8F8-0458-4A63-8907-DA46BD9B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0903-7670-45B1-B6B6-DA02F86C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6AFD-0810-41A0-B19D-413D6EE5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11BC-D98B-40D3-A4E1-E3A106A5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81F1-27D3-4D39-9D14-393D2A92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46FC-020C-419A-BB16-62AB7709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345-85E3-4F8F-8557-89A06C30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5839-A502-49C3-8E8C-2BF800B7FB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t Me Find Thee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achim Neander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Matthew Smith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©2012  Detuned Radio Music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hold me here, in grief draw ne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eading at Thy throne oh King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 each tear, each trembling fe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Son of Man I bring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e find Thee, Let me find The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e find Thee, Lord of mercy King of gr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k down in love, and from abov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y Spirit satisf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hast sought me, Thou hast bought m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y purchase Lord am 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e find Thee, Let me find The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e find Thee, Here on earth and then on hig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r the broken, scarcely spoke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ngings of my heart to th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crying, all the sigh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Thy child accepted 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e find Thee, Let me find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e find Thee, Wounded healer, suffering L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8:53:49Z</dcterms:modified>
  <cp:revision>10</cp:revision>
  <dc:subject/>
  <dc:title>Let Us Love and Sing and Wonder ©2001 Laura Taylor Music. Words: John Newton. Music: Laura Taylor.</dc:title>
</cp:coreProperties>
</file>