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68A-4053-458F-9AFF-5CAFDD94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587-74FE-413D-B7D5-01D6EF80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B6C6-02B3-4106-9A77-492E02A1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852-AEE2-4E27-A5EE-EAC0E523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C5A1-C7BA-4EB2-96AB-F3CE6C42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610-28D2-4123-AE09-F2BE6228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40B-C873-435A-8D41-4CCABDD0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450-A119-4EB3-8A66-C5A2B698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ABB-DB8D-4854-80C0-10047A3D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C3F-59A1-4AE6-8F5A-F2B86C5A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7B0-0A17-480F-B7CD-C15E7EBB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90A-4074-4632-A395-EDD9A724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4E3F-5703-4004-832A-1BE4E8E019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den With Guilt and Full of Fear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: Isaac Watts. Music: Sandra McCracken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2001 Same Old Dress Music (ASCA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den with guilt and full of f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ly to Thee, my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ot a glimpse of hope app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in Thy written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volumes of my Father’s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es all my griefs ass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I behold my Savior’s 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very pa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the field where, hidden, l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earl of price unkn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erchant is divinely w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makes the pearl his 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consecrated water fl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quench my thirst of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the fair tree of knowledge grow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danger dwells with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the judge that ends the strif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wit and reason f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uide to everlasting lif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this gloomy v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may Thy counsels, mighty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roving feet comma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I forsake the happy ro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leads to Thy right h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7:46:39Z</dcterms:modified>
  <cp:revision>2</cp:revision>
  <dc:subject/>
  <dc:title>Let Us Love and Sing and Wonder ©2001 Laura Taylor Music. Words: John Newton. Music: Laura Taylor.</dc:title>
</cp:coreProperties>
</file>