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F50-C5C9-409C-9EE6-24FD3D0C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55C-AF6B-411D-9FB5-58D3E164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9D8-19AE-4DCE-B4C0-8B971FD7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D2F-3F0E-4FCC-8DE3-21B34BB7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BF1-BB33-44C0-9548-40479E54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0C2-6904-4264-AD98-DCAB8B0F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1E6-84E2-46E7-893A-F8213E7A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354-1ABC-4C45-891B-B9F42014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A12-E7A2-4EDE-BA7A-B3DB6E6E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800-C7D8-4721-A0C7-89E2516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D55-25B8-4199-9C0A-DB49A4B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EA4-58A6-4ADB-BDDA-4DC5720A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EFB6-2996-49C6-B8A1-EC56E21997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den With Guilt and Full of Fear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Isaac Watts. Music: Sandra McCracken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1 Same Old Dress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den with guilt and full of f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ly to Thee, my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t a glimpse of hope app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n Thy written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volumes of my Father’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all my griefs ass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I behold my Savior’s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very pa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field where, hidden, l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earl of price unkn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erchant is divinely w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makes the pearl his 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consecrated water fl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quench my thirst of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the fair tree of knowledge grow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danger dwells with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judge that ends the strif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wit and reason f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uide to everlasting 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this gloomy v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may Thy counsels, might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oving feet comm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I forsake the happy 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leads to Thy right h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46:39Z</dcterms:modified>
  <cp:revision>2</cp:revision>
  <dc:subject/>
  <dc:title>Let Us Love and Sing and Wonder ©2001 Laura Taylor Music. Words: John Newton. Music: Laura Taylor.</dc:title>
</cp:coreProperties>
</file>