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8F6-07CA-4E69-8565-5FEA35D6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B0B-DD64-4D75-8A0B-8DC439D6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5AA-795A-45F0-BB58-F575A3E8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124-F8A8-4DE3-B897-6505A5B9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E2A-8E86-4638-80D9-C372E5D1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C66-839A-48F3-898A-C7C0E58F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398-655A-4AE6-9C73-32C05510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FB5-3284-4BEF-A7BC-19AFB92D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E19-CCB9-411B-8321-1C95F5AE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92B-013A-4C9D-A658-2E212E56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9EB-1C36-41CB-A217-D2B56A76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C3E-9A77-4DC3-843B-C0FBC1D7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8399-7ECD-43C5-B578-265B969863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 on, O King Eternal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da-DK" sz="1400" spc="-1" strike="noStrike">
                <a:solidFill>
                  <a:srgbClr val="ffffff"/>
                </a:solidFill>
                <a:latin typeface="Arial"/>
              </a:rPr>
              <a:t>Ernest Shurtleff alt. Jeff Par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Music: Jeff Pardo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5 Cubs In The Series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 eterna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y of march has co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nceforth in fields of conque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tents shall be our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days of prepar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race has made us stro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w, O King eterna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ift our battle s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 eterna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l sin’s fierce war shall cea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liness shall whisp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weet amen of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t with swords¹ loud clash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roll of stirring drum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deeds of love and merc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avenly kingdom com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, Lead 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 eterna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follow, not with f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gladness breaks like morn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’er Thy face appea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cross is lifted over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journey in its l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rown awaits the conques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God of migh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, Lead 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48:40Z</dcterms:modified>
  <cp:revision>3</cp:revision>
  <dc:subject/>
  <dc:title>Let Us Love and Sing and Wonder ©2001 Laura Taylor Music. Words: John Newton. Music: Laura Taylor.</dc:title>
</cp:coreProperties>
</file>