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C504-EE9D-43DD-8F34-F50FFB900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132B-132C-455F-87BF-89CE8703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03D8-AB2F-4B40-A5FA-4BBCFE44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D9C2-5715-4EFF-AD85-35509338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FE58-CF20-4F6D-848C-D3CAEE0C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6AAC-71CB-4537-9C75-367B6302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B1C1-808B-491D-99E6-A7F5FE15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BCE2-D412-41F5-A513-35F83F36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91A7-7F1A-4B43-965C-25481CD6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7F04-936F-415F-B29D-A684B1AF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BB4B-0895-45BE-A0B6-E2FAB9FC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8D0F-7BFD-4589-9D1F-13CA010C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986C-2029-4B39-9CE8-236997B460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ad on, O King Eternal</a:t>
            </a:r>
            <a:br>
              <a:rPr sz="3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da-DK" sz="1400" spc="-1" strike="noStrike">
                <a:solidFill>
                  <a:srgbClr val="ffffff"/>
                </a:solidFill>
                <a:latin typeface="Arial"/>
              </a:rPr>
              <a:t>Ernest Shurtleff alt. Jeff Par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Music: Jeff Pardo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©2005 Cubs In The Series Music (ASCA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d on, O King eterna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day of march has com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nceforth in fields of conques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tents shall be our h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days of preparati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grace has made us strong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now, O King eternal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lift our battle so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d on, O King eternal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ll sin’s fierce war shall ceas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oliness shall whispe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weet amen of pe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not with swords¹ loud clashing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roll of stirring drum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deeds of love and merc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heavenly kingdom come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d on, O King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d on, O King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d on, O King, Lead 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d on, O King eternal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follow, not with fear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gladness breaks like morning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’er Thy face appea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cross is lifted over u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journey in its ligh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rown awaits the conquest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d on, O God of might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d on, O King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d on, O King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d on, O King, Lead 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0:15Z</dcterms:created>
  <dc:creator>Zachary</dc:creator>
  <dc:description/>
  <dc:language>en-US</dc:language>
  <cp:lastModifiedBy>Zachary</cp:lastModifiedBy>
  <dcterms:modified xsi:type="dcterms:W3CDTF">2013-01-05T17:48:40Z</dcterms:modified>
  <cp:revision>3</cp:revision>
  <dc:subject/>
  <dc:title>Let Us Love and Sing and Wonder ©2001 Laura Taylor Music. Words: John Newton. Music: Laura Taylor.</dc:title>
</cp:coreProperties>
</file>