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B17-C330-44D0-AB7A-373A0645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D22-1D06-4F19-8582-D61DCB11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65C-DFCD-4932-9043-C781D897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CB4-3990-4F34-8811-F221B5E1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F0E-9153-49CC-AC49-1030BBEA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45C-C7FC-4416-B324-D3C4741C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1B0-D34A-4B07-95DF-86DE1EC1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B5B-109E-4B3C-AF6C-83536F28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127-C6EF-4434-AA21-8672F0F5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EC2-1989-4269-B985-96B1BDCC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871-823E-4CFB-B9DE-FC5EEF37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D17-B8F3-420D-B685-DC3D15F1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EC0B-6D3D-421F-907B-3F9943737C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ust As I Am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otte Elliott Music: Bobby Guy and Craig Brown  ©1998 Nomella Music (ASCAP) / Bobby Guy Music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s I am, without one ple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at Thy blood was shed for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at Thou bidst me come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s I am, and waiting 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rid my soul of one dark blo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Whose blood can cleanse each spo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s I am, though tossed 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any a conflict, many a doub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ghtings and fears within, withou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s I am, poor, wretched, bli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ght, riches, healing of the mi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all I need in Thee to fi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s I am Thou wilt recei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t welcome, pardon, cleanse, relie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Thy promise I belie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amb of God, I come, I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40:48Z</dcterms:modified>
  <cp:revision>12</cp:revision>
  <dc:subject/>
  <dc:title>Jesus, Lover of My Soul ©2000 Greg Thompson. Words: Charles Wesley. Music: Greg Thompson.</dc:title>
</cp:coreProperties>
</file>