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0CA0-9227-48F6-989C-EAEC69BB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4E16-8075-41F3-9439-16940D65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026E-7000-4D5A-8E79-C0FFE816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76CE-400F-4B86-B35F-E94A139A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5C39-D5CF-47A7-9554-FBEFE00A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C5BA-30A1-4DB0-A21C-148DF709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01EB-15C5-4B5B-BC85-BAF1B5BA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022A-5DE6-48EE-8253-A6778FE7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EB26-989E-490D-BEF6-9EE4B8F3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4DFD-505A-4BE7-96B8-7C697672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164B-ACC6-45D9-B29B-020BC777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C2D2-1164-4A28-A167-AF1CA0FF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615B-4DFB-4EE6-B9F5-B88B494772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ust As I Am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Charlotte Elliott Music: Bobby Guy and Craig Brown  ©1998 Nomella Music (ASCAP) / Bobby Guy Music (ASCAP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 as I am, without one ple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that Thy blood was shed for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at Thou bidst me come to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amb of God, I come, I co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amb of God, I come, I 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 as I am, and waiting no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rid my soul of one dark blo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e Whose blood can cleanse each spo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amb of God, I come, I co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amb of God, I come, I 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 as I am, though tossed ab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many a conflict, many a doub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ghtings and fears within, withou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amb of God, I come, I co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amb of God, I come, I 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 as I am, poor, wretched, blin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ght, riches, healing of the mi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a, all I need in Thee to fi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amb of God, I come, I co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amb of God, I come, I 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 as I am Thou wilt recei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lt welcome, pardon, cleanse, relie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Thy promise I belie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amb of God, I come, I co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amb of God, I come, I 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29:25Z</dcterms:created>
  <dc:creator>Zachary</dc:creator>
  <dc:description/>
  <dc:language>en-US</dc:language>
  <cp:lastModifiedBy>Zachary</cp:lastModifiedBy>
  <dcterms:modified xsi:type="dcterms:W3CDTF">2013-01-05T17:40:48Z</dcterms:modified>
  <cp:revision>12</cp:revision>
  <dc:subject/>
  <dc:title>Jesus, Lover of My Soul ©2000 Greg Thompson. Words: Charles Wesley. Music: Greg Thompson.</dc:title>
</cp:coreProperties>
</file>