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49FA-E7DD-4E95-80FC-7A9406DC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5879-4E59-473C-BB34-9880E0A5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889A-2EA3-4A3C-B804-BC63523B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923B-9EE4-47E1-B751-A9EA7CA0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7E17-AD98-45B8-895E-FBD88F4A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4C7C-7FD7-478A-B1F5-BA5678D9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871A-C87D-43F3-8A8C-D40A9534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43F4-504B-42B9-A7DD-5A0901A1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FD41-B577-4880-B7CD-D304B21E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1268-345A-44D3-A21A-7E759458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8622-7B44-4B2B-97F7-58661DF7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61D9-82AD-4571-91CC-7BED8FA5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FCE7-90F1-4EAD-9D33-2FAE9AE763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oyful, Joyful We Adore Thee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Henry Van Dyke Music: Ludwig van Beethoven  Public 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yful, joyful, we adore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of glory, Lord of lov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rts unfold like flowers before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ening to the sun ab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lt the clouds of sin and sadnes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ive the dark of doubt aw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ver of immortal gladne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ll us with the light of da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y works with joy surround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rth and heaven reflect Thy ray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rs and angels sing around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nter of unbroken prai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eld and forest, vale and mountai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lowery meadow, flashing se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ging bird and flowing fount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ll us to rejoice in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art giving and forgiv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 blessing, ever bless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llspring of the joy of liv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ean depth of happy rest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our Father, Christ our Broth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who live in love are Thin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ach us how to love each oth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ft us to the joy div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tals, join the happy chor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the morning stars bega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love is reigning over 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other love binds man to ma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 singing, march we onwa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tors in the midst of strif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yful music leads us Sunw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triumph song of lif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29:25Z</dcterms:created>
  <dc:creator>Zachary</dc:creator>
  <dc:description/>
  <dc:language>en-US</dc:language>
  <cp:lastModifiedBy>Zachary</cp:lastModifiedBy>
  <dcterms:modified xsi:type="dcterms:W3CDTF">2013-01-05T17:39:00Z</dcterms:modified>
  <cp:revision>11</cp:revision>
  <dc:subject/>
  <dc:title>Jesus, Lover of My Soul ©2000 Greg Thompson. Words: Charles Wesley. Music: Greg Thompson.</dc:title>
</cp:coreProperties>
</file>