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88D-7E3F-489A-A8CF-71DA1190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81D-1674-411E-B26B-51B446BC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705-10D8-471A-BF86-05192C4A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378-78CC-4660-A29D-5A9C0900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F0A-582D-4EC3-801F-70F7B10D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1DD-9F44-48A1-84E0-8680B20D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AB0-F505-490F-AD7B-E5AB960F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DDE-A1F3-44B0-87A1-88D24BAE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216-F15E-4A70-828F-3E065D56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D62-A2D8-4D1D-8235-B48D9DD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718-0D00-4CB9-A219-5ECAF198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5BE-3C28-407B-9B6F-D3308838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9E97-47F0-44C1-8D2B-C7D0CBF7C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yful, Joyful We Adore The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Van Dyke Music: Ludwig van Beethoven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, joyful, we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of glory, Lord of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ts unfold like flowers bef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ing to the sun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lt the clouds of sin and sadne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 the dark of doubt a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r of immortal gla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us with the light of d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works with joy surround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and heaven reflect Thy r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s and angels sing around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er of unbroken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eld and forest, vale and mount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ery meadow, flashing s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bird and flowing foun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 us to rejoice in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giving and forgi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blessing, ever ble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spring of the joy of li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depth of happy res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our Father, Christ our Bro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ho live in love are Th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us how to love each o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s to the joy div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tals, join the happy chor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the morning stars bega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love is reigning ove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ther love binds man to ma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singing, march we onwa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tors in the midst of strif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 music leads us Sun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triumph song of l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9:00Z</dcterms:modified>
  <cp:revision>11</cp:revision>
  <dc:subject/>
  <dc:title>Jesus, Lover of My Soul ©2000 Greg Thompson. Words: Charles Wesley. Music: Greg Thompson.</dc:title>
</cp:coreProperties>
</file>