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54E7-4C2B-4ED1-81C9-1EFAAF6D1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9387-070A-4CEC-A0C7-921137ACD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6B46-268F-4B47-87FA-4492FB767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DEEF-2903-4894-9F40-E2A771170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6680-C221-42C5-8B79-C1E503185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2527-3610-446F-9FBF-255B2958B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94DF-EC48-4BA6-983A-76C035E57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D718-9F93-48E6-9901-40749FC35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13B6-838A-4681-B077-3704A7A84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5A39-AD3D-450C-8B7B-4B38F4634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F9D9-80C9-4B41-951E-99A9DCAAF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9A20-FEC1-4466-97C3-C2AC6821D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0E298-BB54-4B6F-BE88-B149F7997BA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Jesus with Thy Church Abide</a:t>
            </a:r>
            <a:br>
              <a:rPr sz="40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ds: Thomas Pollock Music: Chris Miner  © 1997 Christopher Miner Mus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sus, with Thy church abide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 her savior, Lord, and Guid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ile on earth her faith is tried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 beseech Thee, hear us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 beseech Thee, hear u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Keep her life and doctrine pure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rant her patience to endur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rusting in Thy promise sure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 beseech Thee, hear us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 beseech Thee, hear u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y she one in doctrine b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ne in truth and charit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inning all to faith in Thee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 beseech Thee, hear us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 beseech Thee, hear u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y she guide the poor and blin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ek the lost until she fi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the brokenhearted bind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 beseech Thee, hear us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 beseech Thee, hear u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0:29:25Z</dcterms:created>
  <dc:creator>Zachary</dc:creator>
  <dc:description/>
  <dc:language>en-US</dc:language>
  <cp:lastModifiedBy>Zachary</cp:lastModifiedBy>
  <dcterms:modified xsi:type="dcterms:W3CDTF">2013-01-05T17:37:22Z</dcterms:modified>
  <cp:revision>10</cp:revision>
  <dc:subject/>
  <dc:title>Jesus, Lover of My Soul ©2000 Greg Thompson. Words: Charles Wesley. Music: Greg Thompson.</dc:title>
</cp:coreProperties>
</file>