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13E-1CE3-4171-B8C2-85C881F2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B0B-8BAE-4E98-A2F4-55FD993F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ED8-6292-4B80-816E-1C4CA778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BF1-B462-4FB2-9333-4C6584C9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B0A-98E5-4FA5-B0BD-F7898635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A2F-F3A6-4817-8D08-69701816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B45-DF5A-4AE1-AA9F-118E48A9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17D-6919-46D8-BCCC-F29F8742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55C-06F5-4F0B-842C-7B5EFD44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BAA-619C-41AC-826B-7D670EB9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22E-6BDF-41E4-8235-D4A6CBBD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1D7-F9AE-44F5-B332-057341C5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752D-DBF2-4FC7-A46E-5B8554600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us with Thy Church Abid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Thomas Pollock Music: Chris Miner  © 1997 Christopher Miner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with Thy church ab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er savior, Lord, and Gu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on earth her faith is tri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her life and doctrine pu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her patience to end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ing in Thy promise s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she one in doctrine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in truth and char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ning all to faith in The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she guide the poor and bli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 the lost until she f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brokenhearted bin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7:22Z</dcterms:modified>
  <cp:revision>10</cp:revision>
  <dc:subject/>
  <dc:title>Jesus, Lover of My Soul ©2000 Greg Thompson. Words: Charles Wesley. Music: Greg Thompson.</dc:title>
</cp:coreProperties>
</file>