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D4E-6455-4517-8D94-857FAA27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2CE-EB63-42F8-958C-9DBE801E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568-72D7-4B75-80C3-7687FF95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1C8-21E2-4E0E-ACAA-67BD3447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7CD-F6B4-4095-9B7C-1816E1A6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C75F-BA11-4AAF-AE21-C6755A5C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57B-224B-413A-B49D-A9C18A0B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C11-9385-4EB7-A3F0-8F81777B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502-A80E-4756-A889-A574F93D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0F5-DBAF-4C81-B857-D2163E89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D00-7E1C-4AFC-A552-11F2DB1E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70A-0A19-4F49-81FF-A3410701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B8C8-B939-4747-A033-623BBF0FE3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sus, What a Friend for Sinner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hn Wilbur Chapman Music: Rowland Pritchard  Public 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! What a friend for sinner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! Lover of my sou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 may fail me, foes assail 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my Savior, makes me who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frien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ng, helping, keeping, lov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with me to the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! What a strength in weaknes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hide myself in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mpted, tried, and sometimes fail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my strength, my victory wi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frien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ng, helping, keeping, lov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with me to the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! What a help in sorrow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the billows o’er me ro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n when my heart is brea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, my comfort, helps my sou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frien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ng, helping, keeping, lov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with me to the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! I do now receive Hi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than all in Him I fi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th granted me forgive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His, and He is m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Savio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What a frien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ng, helping, keeping, lov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with me to the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36:08Z</dcterms:modified>
  <cp:revision>9</cp:revision>
  <dc:subject/>
  <dc:title>Jesus, Lover of My Soul ©2000 Greg Thompson. Words: Charles Wesley. Music: Greg Thompson.</dc:title>
</cp:coreProperties>
</file>