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4C2-83E4-4C0A-96A5-BB3DDFF1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01A-9A06-47DD-BEED-5FF77F8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B3F-4AA4-45C9-938C-2B4F77D2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DE5-B5B4-4C0C-B2EC-D0347F9A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3F4-18C6-479B-83E6-C7D697E2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0F1-B720-4A5D-AAB7-11618ADE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EB7-8BFF-4FA9-AAFF-A0F8B2E2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9C0-E076-4B20-80BA-67E82011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1E0-25D7-4853-B4FA-7DBAF7FF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F36-039F-410B-9F49-EFA27E0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FD0-6A5D-4CFA-BDB7-DF45CBC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BFB-BFD1-456A-873F-2AC3952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5C96-1A95-4E7D-84AF-01828F8EE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us, What a Friend for Sinner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Wilbur Chapman Music: Rowland Pritchard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What a friend for sinner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Lover of my so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 may fail me, foes assail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my Savior, makes me wh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frie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ng, helping, keeping, l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What a strength in weaknes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hide myself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ted, tried, and sometimes fa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my strength, my victory w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frie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ng, helping, keeping, l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What a help in sorrow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billows o’er me ro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when my heart is brea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my comfort, helps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frie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ng, helping, keeping, l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I do now receiv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all in Him I fi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th granted me forgive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His, and He is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frie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ng, helping, keeping, l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6:08Z</dcterms:modified>
  <cp:revision>9</cp:revision>
  <dc:subject/>
  <dc:title>Jesus, Lover of My Soul ©2000 Greg Thompson. Words: Charles Wesley. Music: Greg Thompson.</dc:title>
</cp:coreProperties>
</file>