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001-05A5-4C6C-90DA-F4E76BE8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DEB-AC39-43DC-B94B-1EDF4034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0C8-0308-495F-A934-20AA0277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AF9-40C8-40BE-8EBE-29880E8E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5BC-04C9-419E-A77D-6BF4F464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75C-2582-463B-A639-F8CDC3F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A19-C0E1-4D84-BD28-C96FC157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180-6897-4C93-9B3B-E48799D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5B5-02E0-4B80-8218-452576D1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5B2-85EB-4539-9785-8BCF2DA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8CC-ACF7-4774-8FC4-5424BF3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3B0-2913-40ED-B9A3-5146E31C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0A8-D8C0-427F-B7A7-BD75932DE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, the Sinner’s Frien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Music: Stephen Barnes  ©1997 Stephen Barnes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the sinner’s Friend,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t and undone, for aid I fl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ry of earth, myself, and s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Thine arms, and take me 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ty and save my ruined so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ou alone canst make me who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, ’til in me Thine image s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st, I am, ’til Thou art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last I own it cannot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should fit myself for The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, then, to Thee I all resig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is the work, and only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I say Thy grace to mo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I am sin, but Thou art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give up every plea beside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I am lost, but Thou hast d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7:34Z</dcterms:modified>
  <cp:revision>9</cp:revision>
  <dc:subject/>
  <dc:title>Jesus, Lover of My Soul ©2000 Greg Thompson. Words: Charles Wesley. Music: Greg Thompson.</dc:title>
</cp:coreProperties>
</file>