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8A20-0F15-413E-A483-ADFCC9D2E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FAE2-FD95-46FC-AFC7-5BF2CFAE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31E5-E5C0-481D-99C2-CA686A28B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E17F-69CB-4CE3-BFC0-A400F095C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B21A-76B8-4DE1-9B33-CB1CF1B3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6337-4E42-4B5F-AFDF-0DFE821C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6875-E8A7-4560-A9C9-1008299C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CE71-57BD-4404-85E1-420ACFD1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B629-E291-4539-A7BD-1051CA6F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0506-E85A-4156-8753-90DA059F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B629-68CC-4399-AE2C-E4215904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11D7-075A-4D4A-BF0C-CDCBD20B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60F3-B1B4-47B2-9377-76B11376A0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esus, the Sinner’s Friend</a:t>
            </a:r>
            <a:br>
              <a:rPr sz="4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Charles Wesley Music: Stephen Barnes  ©1997 Stephen Barnes Mu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the sinner’s Friend, to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st and undone, for aid I fl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ary of earth, myself, and sin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en Thine arms, and take me i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ity and save my ruined soul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s Thou alone canst make me whol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rk, ’til in me Thine image shi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lost, I am, ’til Thou art mi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 last I own it cannot 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I should fit myself for The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e, then, to Thee I all resign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ne is the work, and only Thi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can I say Thy grace to mov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, I am sin, but Thou art lov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give up every plea beside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, I am lost, but Thou hast di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29:25Z</dcterms:created>
  <dc:creator>Zachary</dc:creator>
  <dc:description/>
  <dc:language>en-US</dc:language>
  <cp:lastModifiedBy>Zachary</cp:lastModifiedBy>
  <dcterms:modified xsi:type="dcterms:W3CDTF">2013-01-05T17:37:34Z</dcterms:modified>
  <cp:revision>9</cp:revision>
  <dc:subject/>
  <dc:title>Jesus, Lover of My Soul ©2000 Greg Thompson. Words: Charles Wesley. Music: Greg Thompson.</dc:title>
</cp:coreProperties>
</file>