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011-4EDC-4DFA-815A-9F3A393C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615-57CE-42F8-9359-D8C25C38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0EE-6E8B-4DC9-854E-E41C3E16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8DD-1FF0-4BC7-BA0A-C6C7D8A3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039-77EB-4FA1-94C4-B856E267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113-F52B-4E39-A613-AE374566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EF2-FB8A-43FC-877D-EF50DA11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165-E8D3-4672-B00F-FB0D96F0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A0A-24E3-4A34-AA6A-8B383B0F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FC9-7FA3-4754-9878-6B1EFDE2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18B-4947-4721-A905-8D4EC8F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EDD-5A81-48FC-BBA9-93FE39E4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C90D-292E-4E92-91B0-AA3367F97A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My Lord the Savior Is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Gadsby  Music: Sandra McCracken  © 2001 Same Old Dress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the Lord, my Savior i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hepherd, and my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ght, my strength, my joy, my bli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His grace rec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I need in Jesus dwell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it dwells for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Christ my earthen vessel fi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reasures rich and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and truth and righteous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eace, most richly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Jesus Christ, the King of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om I stand comple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rough the wilderness I ro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mercies I’ll proclai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I safely reach my h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till adore Hi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thy the Lamb,” shall be my s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e for me was slain;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e with all the heavenly thr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join, and say, “A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and truth and righteous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eace, most richly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Jesus Christ, the King of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om I stand comple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the Lord, my Savior i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hepherd, and my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ght, my strength, my joy, my bli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His grace rec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2:31Z</dcterms:modified>
  <cp:revision>7</cp:revision>
  <dc:subject/>
  <dc:title>Jesus, Lover of My Soul ©2000 Greg Thompson. Words: Charles Wesley. Music: Greg Thompson.</dc:title>
</cp:coreProperties>
</file>