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E7D-59F0-4241-8033-A6C8D2BC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9CB-8AFE-4260-8AFE-F9822C4F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C85-3D9E-4A8E-BECB-4E87B779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FBF-BA08-4600-8E02-679B6709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314-1182-4D34-B387-1BCCBD24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A78-802C-4E92-849B-33F45273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97E-7669-4D6E-B877-190D8DE2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78D-2835-467D-85E9-E3D46348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0C0-BF38-4E2D-A8A9-91831305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16D-851A-4825-8D1F-AD73E71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653-CCFA-4CA0-839B-56DDFE1F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870-039D-458C-AB0C-F68582F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118C-5635-413F-93CC-28E4C3A50D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 My Lord the Savior Is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Gadsby  Music: Sandra McCracken  © 2001 Same Old Dress Music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the Lord, my Savior i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hepherd, and my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ght, my strength, my joy, my bli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His grace rec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I need in Jesus dwell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 it dwells for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Christ my earthen vessel fi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reasures rich and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and truth and righteous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eace, most richly m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Jesus Christ, the King of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om I stand comple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rough the wilderness I ro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mercies I’ll proclai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I safely reach my h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ll still adore His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thy the Lamb,” shall be my s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e for me was slain;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e with all the heavenly thr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join, and say, “A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and truth and righteous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eace, most richly m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Jesus Christ, the King of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om I stand comple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the Lord, my Savior i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hepherd, and my G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ght, my strength, my joy, my bli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His grace rec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2:31Z</dcterms:modified>
  <cp:revision>7</cp:revision>
  <dc:subject/>
  <dc:title>Jesus, Lover of My Soul ©2000 Greg Thompson. Words: Charles Wesley. Music: Greg Thompson.</dc:title>
</cp:coreProperties>
</file>