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635-6645-4CFA-A59C-154F3A35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9E8-B788-4A8A-BF22-61EAFBDC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D28-52C8-461B-9CB9-FDA158F2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58A-5A7A-4845-9538-84A3B0CB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7E1-8BE8-4087-8F54-4ECE116F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82A-F56E-4738-9258-163B1D9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F6B-A10A-45C3-B168-811CF9FD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ACB-DD9A-46E8-A1B3-3B393B47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A03-A035-423B-9FA3-694B43F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4FA-1FA8-4944-BA62-44F84859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A1B-FC2D-41B1-9F10-FF3E415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C8B-FF63-4679-8BDA-9497C29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EA75-50DD-4D29-9459-F89CFD4E0D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Shall Reig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Music: John Hatton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hall reign where’er the s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His successive journeys ru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gdom spread from shore to sh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moons shall wax and wane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m shall endless prayer be ma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aises throng to crown His hea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name like sweet perfume shall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very morning sacrif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 and realms of ev’ry tong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well on His love with sweetest so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fant voices shall procl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early blessings on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ings abound where’er He reig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isoner leaps to lose his chai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eary find eternal 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sons of want are bles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He displays His healing p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th and the curse are known no mo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 the tribes of Adam bo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blessings than their father l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’ry creature rise and b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rateful honors to our K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descend with songs a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arth repeat the loud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0:54Z</dcterms:modified>
  <cp:revision>6</cp:revision>
  <dc:subject/>
  <dc:title>Jesus, Lover of My Soul ©2000 Greg Thompson. Words: Charles Wesley. Music: Greg Thompson.</dc:title>
</cp:coreProperties>
</file>