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96E-E221-4B72-A0E2-EC1F5D03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8F9-6F71-4978-A807-8F1BFF43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028-5015-430E-B97B-1FD8CCA6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CDE-B71B-4AB8-9AC6-0859FFDE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D8C-5589-4827-B8B3-2A6BA783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601-4B35-40B6-AE34-F73699EC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A36-22A2-4BCD-8F5D-4BF16E9C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0D9-B6E0-48A4-80BF-25E66559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BF8-7EF9-498B-8A1E-1D2C28A8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BC0-D5E3-4525-BE7A-A22C573A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D15-5691-4600-812B-CCAEFDDA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F21-1E27-47F9-95D6-51E6C841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4ECA-36F7-4C37-B55B-8BB681F3ED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sus Shall Reign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aac Watts Music: John Hatton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shall reign where’er the su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es His successive journeys ru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kingdom spread from shore to sh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 moons shall wax and wane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im shall endless prayer be ma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raises throng to crown His hea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name like sweet perfume shall 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every morning sacrif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ople and realms of ev’ry tong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well on His love with sweetest so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fant voices shall procl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early blessings on His n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ings abound where’er He reign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isoner leaps to lose his chain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eary find eternal r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e sons of want are bless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He displays His healing pow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th and the curse are known no mo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m the tribes of Adam bo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blessings than their father lo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ev’ry creature rise and b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grateful honors to our K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gels descend with songs ag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earth repeat the loud ame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30:54Z</dcterms:modified>
  <cp:revision>6</cp:revision>
  <dc:subject/>
  <dc:title>Jesus, Lover of My Soul ©2000 Greg Thompson. Words: Charles Wesley. Music: Greg Thompson.</dc:title>
</cp:coreProperties>
</file>