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48D-A800-4C73-BECF-75EDB231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BE6-6525-4E7E-85BB-705BB44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9F0-6177-4755-8E31-5F47D6F7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008-5242-45F2-BE29-701B35A7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B64-188E-46B7-A21C-DD5297E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5E3-554B-4756-8FF5-3CF91DD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4D5-3890-4DCC-B09E-4B810A4C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BBF-C9C4-42DA-A265-6337C199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58B-D7B0-4BD1-A73F-041E261B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3C4-B08A-469E-888D-AF6FA26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40D-6B31-4AC5-8272-39675DE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B44-77D7-47F8-B761-446233E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290-C7EE-4075-86AB-963BA1690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Lover of My Soul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0 Greg Thompson. Words: Charles Wesley. Music: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ver of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to Thy bosom f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nearer waters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tempest still is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de me, O my Savior, h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life’s storm is p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to the haven gu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 my soul at l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efuge have I n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lpless, hang on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, oh leave me not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and comfor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trust on Thee is st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lp from Thee I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ver my defenseless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adow of Thy w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O Christ, are all I wa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more than all I fi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fallen, cheer the fai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the sick, and lead the bli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nd holy is Th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ll unrighteousn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se and full of sin I a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full of truth and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nteous grace with Thee is f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o cover all my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healing streams abou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and keep me pure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f life the fountain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take of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 Thou up within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4T00:29:47Z</dcterms:modified>
  <cp:revision>1</cp:revision>
  <dc:subject/>
  <dc:title>Jesus, Lover of My Soul ©2000 Greg Thompson. Words: Charles Wesley. Music: Greg Thompson.</dc:title>
</cp:coreProperties>
</file>