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1F3-0BE0-45FA-A308-9933827A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79B-DAD3-4789-A649-E4D95C79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D9F-4D16-4F0D-AD9F-96FEA849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85D-7453-4D75-9A87-EFE3238C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623-F161-421D-BA7E-9F85CE20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F72-E2E1-4EA6-AD69-CF4CEAF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C1A-5D2C-420E-B979-B0FF680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89A-9FD9-4ADB-9AF9-4EF38FA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43A-FEA1-4896-A76F-35A9623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6FD-139F-4063-B575-3057FEB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826-10A7-4951-A2A6-049E980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835-6FA2-4BAD-894C-B4C67FB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6B2-0C54-493F-9C8B-9B028575E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Lover of My Soul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0 Greg Thompson. Words: Charles Wesley. Music: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ver of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to Thy bosom f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nearer waters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tempest still is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de me, O my Savior, h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life’s storm is p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to the haven gu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 my soul at l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efuge have I n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lpless, hang on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, oh leave me not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and comfor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trust on Thee is st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lp from Thee I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ver my defenseless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adow of Thy w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O Christ, are all I wa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more than all I fi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fallen, cheer the fai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the sick, and lead the bli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nd holy is Th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ll unrighteousn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se and full of sin I a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full of truth and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nteous grace with Thee is f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o cover all my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healing streams abou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and keep me pure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f life the fountain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take of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 Thou up within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4T00:29:47Z</dcterms:modified>
  <cp:revision>1</cp:revision>
  <dc:subject/>
  <dc:title>Jesus, Lover of My Soul ©2000 Greg Thompson. Words: Charles Wesley. Music: Greg Thompson.</dc:title>
</cp:coreProperties>
</file>