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FA95-05F0-4A04-A0A5-0C0EFE17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15CD-02FD-42B9-B248-E44C09D8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A838-ABE5-47BF-A13D-98F66F3F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C799-410F-4748-A8B5-A678FF24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CB79-10F6-4EB4-953F-CF4FD255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2CE3-80E5-48DA-8DD7-1DCCC0D7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2943-31AC-4527-8A1A-FC5D9C83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A6C9-691E-4270-A947-F32C30CB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778C-A8BF-4802-9493-7A67BC69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0CA7-FE5F-47F1-BC1A-D2AE19C0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D858-1956-42C3-B626-6272FE5C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762A-0B32-4D43-A36D-26925C00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5199-4DE1-417A-8738-5F545D7CDA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esus Lord We Look to Thee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Charles Wesley alt. Jason Feller  Music: Jason Feller ©2004 Jason Feller Mu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y reconciling l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y stumbling block rem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ch to each unite, end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and spread thy banner 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Lord, we look to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in they name ag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w thyself the Prince of Pe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d all quarrels forever c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 us of one heart and mi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teous, pitiful, and ki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wly, meek, in thought and w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together like our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Lord, we look to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in they name ag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w thyself the Prince of Pe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d all quarrels forever c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then with joy rem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y family up ab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e wings of angels f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w how true believers d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Lord, we look to th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in they name ag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w thyself the Prince of Pe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d all quarrels forever c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29:25Z</dcterms:created>
  <dc:creator>Zachary</dc:creator>
  <dc:description/>
  <dc:language>en-US</dc:language>
  <cp:lastModifiedBy>Zachary</cp:lastModifiedBy>
  <dcterms:modified xsi:type="dcterms:W3CDTF">2013-01-05T17:29:43Z</dcterms:modified>
  <cp:revision>5</cp:revision>
  <dc:subject/>
  <dc:title>Jesus, Lover of My Soul ©2000 Greg Thompson. Words: Charles Wesley. Music: Greg Thompson.</dc:title>
</cp:coreProperties>
</file>