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AAD-6E9E-45A4-8FD1-A3CE6423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AE4-284C-42A2-9898-2637C90F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7A0-C892-4D01-A3BC-C310ADCC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60C-30F5-4EE6-8BA1-2EC5113E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BFD-21AE-4498-B71C-2A0458A3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8BD-A878-4765-B265-803D4E61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249-288F-4212-9CCB-103FA792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DD9-CB29-43A2-9F17-6F5D482E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925-AF3F-4C38-A078-2EF37035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648-4A57-4161-B851-47A71C5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848-3C10-4D0D-8695-D9B311F3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840-6B46-4A54-BAA2-3985CDF3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8D33-1023-41B2-A629-5546A0AF4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Lord We Look to The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alt. Jason Feller  Music: Jason Feller ©2004 Jason Fell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reconciling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stumbling block rem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to each unite, end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spread thy banner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rd, we look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in they name ag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thyself the Prince of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all quarrels forever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us of one heart and m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ous, pitiful, and ki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wly, meek, in thought and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together like our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rd, we look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in they name ag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thyself the Prince of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all quarrels forever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then with joy rem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family up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wings of angels f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how true believers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rd, we look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in they name ag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thyself the Prince of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all quarrels forever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29:43Z</dcterms:modified>
  <cp:revision>5</cp:revision>
  <dc:subject/>
  <dc:title>Jesus, Lover of My Soul ©2000 Greg Thompson. Words: Charles Wesley. Music: Greg Thompson.</dc:title>
</cp:coreProperties>
</file>