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E20A-9A6A-4ECE-8D71-EA472DE5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3805-9B50-4C0B-86CB-5A55A46F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8BE4-0C55-4DD5-B9C4-91262524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A374-80D4-474B-9F9D-2882C429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A5A5-9F84-4C32-B89B-FC65E033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40EB-4F7A-4475-9D64-83B84988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7DC2-EFFF-4538-93B5-5CDB0C8A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CAC3-79CE-43C3-AB74-F8C84A55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567E-969E-4724-9560-68AFB2F5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46E3-FED1-49AE-8D10-80F4D534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4258-98A1-4ED4-B200-59EDF1F4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5279-74D4-4DCC-91AC-8E46D7CC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4320-7083-44FC-9EA2-B6E7FAF86C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esus I My Cross Have Taken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Henry Lyte  Music: Bill Moore ©2001 Bill Moore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I my cross have tak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o leave and follow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stitute, despised, forsak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from hence my all shall 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ish every fond ambit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I’ve sought or hoped or know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how rich is my conditio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and heaven are still my ow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e world despise and leave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have left my Savior, to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uman hearts and looks deceive 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art not, like them, untru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while Thou dost smile upon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of wisdom, love, and m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es may hate and friends disown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w Thy face and all is brigh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 may trouble and distress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ill but drive me to Thy brea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e with trials hard may press 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ven will bring me sweeter re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, ’tis not in grief to harm 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Thy love is left to 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, ’twere not in joy to charm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re that joy unmixed with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, then, earthly fame and treasu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disaster, scorn and p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y service, pain is pleasu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y favor, loss is g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have called Thee Abba Fath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have stayed my heart on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orms may howl, and clouds may gathe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must work for good to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ul, then know thy full salv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se o’er sin and fear and c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y to find in every stat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thing still to do or bea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k what Spirit dwells within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k what Father’s smiles are th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k that Jesus died to win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ild of heaven, canst thou rep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ste thee on from grace to glo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med by faith, and winged by pray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ven’s eternal days before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’s own hand shall guide us t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on shall close thy earthly miss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on shall pass thy pilgrim day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pe shall change to glad fruit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th to sight, and prayer to prai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29:25Z</dcterms:created>
  <dc:creator>Zachary</dc:creator>
  <dc:description/>
  <dc:language>en-US</dc:language>
  <cp:lastModifiedBy>Zachary</cp:lastModifiedBy>
  <dcterms:modified xsi:type="dcterms:W3CDTF">2013-01-05T17:28:20Z</dcterms:modified>
  <cp:revision>4</cp:revision>
  <dc:subject/>
  <dc:title>Jesus, Lover of My Soul ©2000 Greg Thompson. Words: Charles Wesley. Music: Greg Thompson.</dc:title>
</cp:coreProperties>
</file>