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DCB-2518-4398-97BB-C5084851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EBB-7061-4933-9C3E-3FEDC6E7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FF3-29AC-486B-B368-986D442E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779-B88F-4201-BCBD-55AB4D94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0AE-C6E9-4BD8-8CBD-4CC2FF5D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D6B-805C-4829-A099-ACF024D0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74C-5AA2-4E53-B8FD-A84179D8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C4E-353C-4021-8914-31232C76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DB3-73B7-4835-8AB8-C6E53E24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4E39-6CD0-4A12-8061-3AACEF75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19B-E1CA-4C55-91CC-7D004997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B73A-83D7-4B96-9272-5D4BE3A6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7538-2723-44A9-A5EA-D87DEA7B31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sus I My Cross Have Taken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enry Lyte  Music: Bill Moore ©2001 Bill Moore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I my cross have tak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o leave and follow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titute, despised, forsak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from hence my all shall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ish every fond ambi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’ve sought or hoped or kn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how rich is my conditi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and heaven are still my 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 world despise and leave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have left my Savior, to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uman hearts and looks deceive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not, like them, untru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while Thou dost smile up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of wisdom, love, and m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es may hate and friends disow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 Thy face and all is br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 may trouble and distress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ill but drive me to Thy brea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e with trials hard may press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ven will bring me sweeter r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, ’tis not in grief to harm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Thy love is left to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, ’twere not in joy to charm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re that joy unmixed with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, then, earthly fame and treasu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disaster, scorn and p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service, pain is pleasu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y favor, loss is g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ave called Thee Abba Fath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ave stayed my heart on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rms may howl, and clouds may gathe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must work for good to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ul, then know thy full salv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se o’er sin and fear and c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 to find in every sta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thing still to do or b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k what Spirit dwells within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k what Father’s smiles are th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k that Jesus died to win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ild of heaven, canst thou rep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te thee on from grace to gl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med by faith, and winged by pray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ven’s eternal days before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’s own hand shall guide us t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on shall close thy earthly miss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on shall pass thy pilgrim day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e shall change to glad frui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th to sight, and prayer to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28:20Z</dcterms:modified>
  <cp:revision>4</cp:revision>
  <dc:subject/>
  <dc:title>Jesus, Lover of My Soul ©2000 Greg Thompson. Words: Charles Wesley. Music: Greg Thompson.</dc:title>
</cp:coreProperties>
</file>