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FF29-32D9-4386-B22F-4166AC431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845C-891D-4AF7-A115-812617C2A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0A52-ACCF-4F12-9422-3BE40596F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1E4F-A6EB-4BB6-B660-8B274CFA8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B181-D60C-4A19-9526-A7C44DC6D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BE8E-CE7B-42BB-BD6A-15FB0F837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5970-3F6A-4BC5-9929-C557370B5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B06E-72EA-4B27-86DD-29B1C27C8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2790-C248-4BA8-BE56-F9D8A5C35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A06D-62B8-4E50-8A96-1A66D398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1DC7-4DEE-49F7-9376-4CEBBC41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5BCE-0B83-4585-BD50-4E8A515E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4A09E-BAB9-4761-B05A-FC3B9804B6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Jesus, I Come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2000 Greg Thompson. Words: William Sleeper. Music: Greg Thomps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t of my bondage, sorrow and nigh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Jesus, I come; Jesus I co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o Thy freedom, gladness and ligh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I come to Th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t of my sickness into Thy health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t of my wanting and into Thy wealth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t of my sin and into Thyself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I come to Th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t of my shameful failure and los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Jesus, I come; Jesus, I co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o the glorious gain of Thy cros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I come to Th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t of earth’s sorrows into Thy balm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t of life’s storms and into Thy calm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t of distress into jubilant psalm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I come to Th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t of unrest and arrogant prid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Jesus, I come; Jesus, I co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o Thy blessed will to abid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I come to Th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t of myself to dwell in Thy lov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t of despair into raptures abov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pward forever on wings like a dov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I come to Th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t of the fear and dread of the tomb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Jesus, I come; Jesus, I co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o the joy and light of Thy ho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I come to Th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t of the depths of ruin untol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o the peace of Thy sheltering fol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ver Thy glorious face to behol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I come to Th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16:20Z</dcterms:created>
  <dc:creator>Zachary</dc:creator>
  <dc:description/>
  <dc:language>en-US</dc:language>
  <cp:lastModifiedBy>Zachary</cp:lastModifiedBy>
  <dcterms:modified xsi:type="dcterms:W3CDTF">2013-01-04T00:16:52Z</dcterms:modified>
  <cp:revision>1</cp:revision>
  <dc:subject/>
  <dc:title>Jesus, I Come ©2000 Greg Thompson. Words: William Sleeper. Music: Greg Thompson.</dc:title>
</cp:coreProperties>
</file>