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4A6-421E-4EB4-BD47-EA11ECB7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001-6504-402A-A41F-0AA53EBB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6EF-EE27-44EB-8081-DD7BBB47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433-35C1-4155-B54E-97DE5B85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E88-CCB0-45C0-90C3-611F676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AEB-CCE8-43FA-A790-35D76F24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754-EB71-4A25-9657-E0AB9BD7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DB8-8D50-403C-AAC8-3083A05B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C8E-02B5-468F-A92E-4AAD310B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DFD-397E-466B-9806-ADAA704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E9B-04DF-4D27-9F52-00669D9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797-7943-4F14-8B31-C718E2B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DDB3-4247-4526-9BB7-F06AF436F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, I Co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0 Greg Thompson. Words: William Sleeper. Music: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bondage, sorrow and 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y freedom, gladness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ickness into Thy heal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wanting and into Thy weal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in and into Thysel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hameful failure and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glorious gain of Thy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earth’s sorrows into Thy b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life’s storms and into Thy c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distress into jubilant ps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unrest and arrogant pr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y blessed will to ab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self to dwell in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despair into rapture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ward forever on wings like a d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fear and dread of the to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joy and light of Thy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pths of ruin unt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peace of Thy sheltering f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Thy glorious face to be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6:20Z</dcterms:created>
  <dc:creator>Zachary</dc:creator>
  <dc:description/>
  <dc:language>en-US</dc:language>
  <cp:lastModifiedBy>Zachary</cp:lastModifiedBy>
  <dcterms:modified xsi:type="dcterms:W3CDTF">2013-01-04T00:16:52Z</dcterms:modified>
  <cp:revision>1</cp:revision>
  <dc:subject/>
  <dc:title>Jesus, I Come ©2000 Greg Thompson. Words: William Sleeper. Music: Greg Thompson.</dc:title>
</cp:coreProperties>
</file>