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018-981B-4330-90F6-2A3F5D91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9B9-1D4C-4E9C-907B-6B2FC540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729-365C-4CC0-933E-BB7244B9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437-10D5-407B-AAB9-462B31C5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F56-500C-49CF-9B37-624C440D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118-E932-4B8C-A031-E109DB5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0F4-5860-42C2-9ED7-4DADE57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D28-3613-4D56-B013-5BAEF5C5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A47-D79A-40FA-801B-A2C3747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900-CE38-4A5E-A515-96FB7AC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0EA-EF73-4ED7-BD94-89853AA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430-571C-41E6-A35B-9C974CF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C0D-1066-4C65-BB45-5001AB9F8E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Everlasting King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and Matthew Smith Music: Matthew Smith ©2003 Detuned Radio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end Your Spirit to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 and repentance to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the dear hour when from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first received Your pledge of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adness of redemption’s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arts would wish it long to st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let our faith forsake its h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comforts sink, or love grow co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every time of worship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grace revealed more rich and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we are raised to sing Your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the great supper of the Lam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t the months would roll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ring the coronation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of Grace shall fill the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ll His Father’s glories 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6:24Z</dcterms:modified>
  <cp:revision>3</cp:revision>
  <dc:subject/>
  <dc:title>Jesus, Lover of My Soul ©2000 Greg Thompson. Words: Charles Wesley. Music: Greg Thompson.</dc:title>
</cp:coreProperties>
</file>