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322-9057-4344-97D8-07DAF05C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F55-BC69-42FD-AED1-CC29141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5C8-2585-4C9B-8367-35ED11F2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991-E1C7-4E9A-9028-D309B0B6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2D2-61DB-48E6-86C5-DB41D20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FD3-6D70-46DB-9DC0-6B5F4687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5FF-A8FF-44BB-A12D-EC8BF0D7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B44-B02C-4A56-AE54-8FC431FA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7B3-84C2-41DA-9477-CC5BECC8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181-2345-4116-8A7C-FE830DF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401-204D-42EE-B741-22A711F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451-5964-4662-8C8E-A4185F6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A84-50D2-42AB-9BDC-2E68B1A3B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Everlasting King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and Matthew Smith Music: Matthew Smith ©2003 Detuned Radio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end Your Spirit to im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 and repentance to our hear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the dear hour when from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first received Your pledge of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adness of redemption’s d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would wish it long to st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our faith forsake its ho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comforts sink, or love grow co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every time of worship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grace revealed more rich and f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we are raised to sing Your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great supper of the Lam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 the months would roll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ring the coronation d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of Grace shall fill the thr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ll His Father’s glories 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everlasting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tribute which we bring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 the well deserved re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ear our praises as Your cr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6:24Z</dcterms:modified>
  <cp:revision>3</cp:revision>
  <dc:subject/>
  <dc:title>Jesus, Lover of My Soul ©2000 Greg Thompson. Words: Charles Wesley. Music: Greg Thompson.</dc:title>
</cp:coreProperties>
</file>