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F00B-D912-4A8B-A949-2F8DCBFA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109-3D34-43DD-96C0-A94F0A04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1FA-E975-40D0-9F0B-1B6DB585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BD3-955B-4D88-B734-C4699A11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CDA-2A0F-4D97-B58A-E0C6B1FD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8DCD-0695-4D0A-BDEF-4D864C04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7DC-8C9D-4E13-A61C-47E7834B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2E0-579D-4587-9BE3-080126AD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2C8-AA31-4C30-BC97-8100B933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A8A-396C-4084-93F9-1E331747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807-1EB9-4167-B916-7E6E69F8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9B9-9B20-4C75-A1A5-EC5F5383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24FC-CF3C-410A-85F6-073A08D6E7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sus, Cast a Look on Me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hn Berridge Music: Matthew Perryman Jones © MPJ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cast a look on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me sweet simpli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me poor and keep me l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king only Thee to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at feeds my busy pri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st it evermore as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d my will to Thine submi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y me humbly at Thy f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me like a little chi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my strength and wisdom spoi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ing only in Thy l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lking only in Thy m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ning on Thy loving bre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a weary soul can 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eling well the peace of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ing from His preciou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is posture let me li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osannas daily g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is temper let me di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osannas ever cr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24:08Z</dcterms:modified>
  <cp:revision>2</cp:revision>
  <dc:subject/>
  <dc:title>Jesus, Lover of My Soul ©2000 Greg Thompson. Words: Charles Wesley. Music: Greg Thompson.</dc:title>
</cp:coreProperties>
</file>