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D64-BA05-4644-AD52-A5BE1434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FBC-E651-429D-9F37-BA803199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06DD-379D-472F-8229-DB9ED99A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41EC-C96F-49A2-AB76-26FEA4C4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A52F-ECE7-4FBA-B292-839B88CF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84E-3D9F-42BD-9689-1005CA9F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248-AFC0-43A6-B546-D0B44C95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472-E4F8-40D3-9307-812A4084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6D3-032C-4840-8236-55203704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84C-B1CA-4109-9D58-667F12D3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0972-96FA-49B0-869C-2829F284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367F-F3DA-4B05-8E5D-3F5952FE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05D7-7728-4DF3-B979-75A92C5D54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sus, Cast a Look on Me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John Berridge Music: Matthew Perryman Jones © MPJ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cast a look 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 me sweet simplic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 me poor and keep me l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king only Thee to k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at feeds my busy prid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st it evermore as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d my will to Thine submi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y me humbly at Thy f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 me like a little chil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my strength and wisdom spoi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ing only in Thy l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lking only in Thy m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ning on Thy loving bre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a weary soul can 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eling well the peace of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owing from His preciou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is posture let me li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osannas daily g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is temper let me di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osannas ever cr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5T17:24:08Z</dcterms:modified>
  <cp:revision>2</cp:revision>
  <dc:subject/>
  <dc:title>Jesus, Lover of My Soul ©2000 Greg Thompson. Words: Charles Wesley. Music: Greg Thompson.</dc:title>
</cp:coreProperties>
</file>