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F95-B3E0-4DCE-95F6-A185C6F9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E24-A40B-4835-B0B7-0906A13D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D85-106A-421D-B21F-D2274B3E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CB4-FFA8-4A8C-8D91-764C6027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B0B-1633-4FA4-A48D-6BE80044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FD8-20F1-4028-ACE9-836D028F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9A2-ED6F-46D6-897C-6A584660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1FA-524E-41B8-9484-949DB65D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4EC-FBDF-4EA4-99F4-61FD7121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C05-1716-4E98-805F-E925A042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B8D-E482-4D76-A094-88AD6C08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465-15BD-4D81-9287-D8BEE88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8375-D73E-4268-B88C-2365AD333E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the Hours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len Parmlee alt. Kevin Twit   Music: Kevin Twit ©2007 Kevin Twit Music (ASCA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hours of pain and sorrow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world brings no rel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eye is dim and heav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heart oppressed with gr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blessings flee, Savior Lord we trust in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blessings flee, Savior Lord we trust in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snares of death surround 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de, ambition, love of 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mmon with her false allurement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ds that flatter, smiles that p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ere we yield, Savior Lord be Thou our shie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ere we yield, Savior Lord be Thou our shie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forsaken in distr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or despised and tempest-to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no anchor here to stay 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ifting, sail and rudder l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ave us Thou, who trod this earth with weary b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ave us Thou, who trod this earth with weary b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the hated and forsake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the bearer of the cr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ed of thorns and mocked and smitte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nting earthly gain but l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corned are we, We joy to be the more like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corned are we, We joy to be the more like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the Father’s best belov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the throned and sceptered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but Thee should we ador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ur prayers and praises br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blessed are we, Savior Lord in loving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blessed are we, Savior Lord in loving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38:29Z</dcterms:modified>
  <cp:revision>13</cp:revision>
  <dc:subject/>
  <dc:title>Hallelujah, Praise Jehovah ©1982 Darwin Jordan Music. Words: William Kirkpatrick. Music: Darwin Jordan.</dc:title>
</cp:coreProperties>
</file>