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85B-9BF0-446B-A86D-E2BC975D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A3C-A36E-40FB-AC37-EB38C12B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046-3C11-4319-A03B-8792B922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97E-647B-4A25-8F6D-CA6DA5BC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51D-7FEB-4DA6-AE0C-FC773B4B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2CA-B0C7-43FE-9BFF-C1E120A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B87-AEC6-43F1-9E78-66CC5761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379-0A33-42BB-B8AF-B5A40D32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904-99A5-4B6F-91D3-7A206981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49F-171C-493A-A301-37C3821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4AE-4302-4BA3-9926-DF25B290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E03-6FE6-4270-A56B-2CF15469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393A-9269-4046-B521-4FEB81B51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he Hours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Helen Parmlee alt. Kevin Twit   Music: Kevin Twit ©2007 Kevin Twit Music (ASCA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hours of pain and sorrow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world brings no rel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eye is dim and heav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heart oppressed with g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blessings flee, Savior Lord we trust in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blessings flee, Savior Lord we trust in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snares of death surround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de, ambition, love of 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mmon with her false allurement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ds that flatter, smiles that p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ere we yield, Savior Lord be Thou our shi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ere we yield, Savior Lord be Thou our shi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forsaken in distr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or despised and tempest-to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no anchor here to stay u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fting, sail and rudder l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ave us Thou, who trod this earth with weary b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ave us Thou, who trod this earth with weary b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he hated and forsak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he bearer of the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ed of thorns and mocked and smitt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nting earthly gain but l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corned are we, We joy to be the more like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corned are we, We joy to be the more like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he Father’s best belov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the throned and sceptered 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but Thee should we ador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ur prayers and praises br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blessed are we, Savior Lord in loving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blessed are we, Savior Lord in loving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0:09Z</dcterms:created>
  <dc:creator>Zachary</dc:creator>
  <dc:description/>
  <dc:language>en-US</dc:language>
  <cp:lastModifiedBy>Zachary</cp:lastModifiedBy>
  <dcterms:modified xsi:type="dcterms:W3CDTF">2013-01-05T16:38:29Z</dcterms:modified>
  <cp:revision>13</cp:revision>
  <dc:subject/>
  <dc:title>Hallelujah, Praise Jehovah ©1982 Darwin Jordan Music. Words: William Kirkpatrick. Music: Darwin Jordan.</dc:title>
</cp:coreProperties>
</file>