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6D64-51AE-4969-8C5D-9D6E8C2E9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756A-F99F-4BDC-A169-E43D90C2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90D0-F88B-468E-80FE-D1C3AC57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7975-48D0-45CC-8D84-A2FF2E07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E9E8-1434-4686-9CEC-F263AFED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6A8E-EAFC-4425-BA52-669A8D7C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AFDC-F250-4B6C-B31D-F470D219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3F5E-D3C1-49B0-A500-C9A7365C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E16D-B508-485C-B0FC-1118607C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E908-89A6-458D-9035-E4124CC5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823D-7FE9-4496-8B88-910C4C4E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DC2F-8A0B-43D9-9A22-E054DB74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2B90-2C8D-4033-819B-1E3F4409F7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 Is Well with My Soul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Horatio Spafford   Music: Philip Bliss  Public Do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peace, like a rive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tendeth my w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sorrows like sea billows roll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ever my lo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hast taught me to s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well, it is well with my soul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well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t is well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my soul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with my sou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well, it is well with my sou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Satan should buffe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trials should co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this blessed assurance contro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Christ has regarde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helpless estat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ath shed His own blood for my sou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well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t is well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my soul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with my sou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well, it is well with my sou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sin, oh the blis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this glorious thought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sin, not in part but the whol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nailed to the cros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 bear it no mo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the Lord, praise the Lord, O my soul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well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t is well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my soul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with my sou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well, it is well with my sou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ord haste the d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he faith shall be sigh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louds be rolled back as a scroll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trump shall resoun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 Lord shall descen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n so, it is well with my sou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well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t is well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my soul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with my sou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well, it is well with my sou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30:09Z</dcterms:created>
  <dc:creator>Zachary</dc:creator>
  <dc:description/>
  <dc:language>en-US</dc:language>
  <cp:lastModifiedBy>Zachary</cp:lastModifiedBy>
  <dcterms:modified xsi:type="dcterms:W3CDTF">2013-01-05T16:42:27Z</dcterms:modified>
  <cp:revision>13</cp:revision>
  <dc:subject/>
  <dc:title>Hallelujah, Praise Jehovah ©1982 Darwin Jordan Music. Words: William Kirkpatrick. Music: Darwin Jordan.</dc:title>
</cp:coreProperties>
</file>