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A4A3-3AB8-48BB-B2D0-14D7A5E84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4070-2FE0-4D72-B117-096582C0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BBCB-8AAD-4D01-8ECA-959B8E014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919F-09C1-4A6F-A065-CC947FA07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8049-FDFB-4D61-A8B5-EFF31B28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6A77-1524-4B48-A911-6224A992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5713-42C8-4B7B-B337-FEEBE9DF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D5D2-BD62-42EF-8EE1-DA6861E1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AA46-606F-493C-8B9C-4811839D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4B6C-D024-4F27-AECC-02C289CE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4ACE-2168-4B81-BF5C-86544A50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2B97-DA43-4224-A3FE-E6E3496E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D3D7-1239-4BA6-98C8-EBA3A6314B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 Is Well with My Soul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Horatio Spafford   Music: Philip Bliss  Public Dom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peace, like a rive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tendeth my w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sorrows like sea billows roll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ever my lo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hast taught me to s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well, it is well with my soul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well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t is well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my soul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with my sou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well, it is well with my sou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Satan should buffe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trials should co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this blessed assurance contro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Christ has regarde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helpless estat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ath shed His own blood for my sou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well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t is well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my soul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with my sou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well, it is well with my sou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sin, oh the blis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this glorious thought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sin, not in part but the whol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nailed to the cros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 bear it no mo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the Lord, praise the Lord, O my soul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well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t is well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my soul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with my sou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well, it is well with my sou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Lord haste the d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he faith shall be sigh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louds be rolled back as a scroll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trump shall resoun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 Lord shall descen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n so, it is well with my sou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well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t is well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my soul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with my sou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well, it is well with my sou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30:09Z</dcterms:created>
  <dc:creator>Zachary</dc:creator>
  <dc:description/>
  <dc:language>en-US</dc:language>
  <cp:lastModifiedBy>Zachary</cp:lastModifiedBy>
  <dcterms:modified xsi:type="dcterms:W3CDTF">2013-01-05T16:42:27Z</dcterms:modified>
  <cp:revision>13</cp:revision>
  <dc:subject/>
  <dc:title>Hallelujah, Praise Jehovah ©1982 Darwin Jordan Music. Words: William Kirkpatrick. Music: Darwin Jordan.</dc:title>
</cp:coreProperties>
</file>