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174-888E-430C-9603-2CB7E157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14B-2888-44A4-BF01-7E6A0B07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63A-880C-4669-BA94-45B0549D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488-268E-45DD-9991-62F7E274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61F-223C-44A9-A84A-86630057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05C-25BB-4F25-8B61-4AE8E239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731-F03F-43DF-8BDF-F015274F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68F-5F1D-4C5C-AF6A-753204F0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F88A-FC65-477F-876D-1647E237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336-55D4-427D-9A08-215D643D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484-F12E-4CF1-AFFE-8236C8EC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935-CEE2-4DFB-9BFB-C9563795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CE5D-3C41-4468-96E1-73CFACA884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Sing the Mighty Power of Go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sac Watts   Music: Jacob Grimm ©2001 Jacob Grimm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 mountains r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spread the flowing seas abro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uilt the lofty sk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wisdom that ordain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un to rule the d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on shines full at His comm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e stars obe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goodness of the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filled the earth with f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formed the creatures with His w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n pronounced them g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how Thy wonders are display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’er I turn my ey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 survey the ground I tre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gaze upon the s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’s not a plant or flower bel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makes Thy glories k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louds arise, and tempests bl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order from Thy thr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ures that borrow life from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subject to Thy ca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’s not a place where we can fl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God is present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28:02Z</dcterms:modified>
  <cp:revision>9</cp:revision>
  <dc:subject/>
  <dc:title>Hallelujah, Praise Jehovah ©1982 Darwin Jordan Music. Words: William Kirkpatrick. Music: Darwin Jordan.</dc:title>
</cp:coreProperties>
</file>