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43316-7B14-43B1-AA38-BB4ED9D3C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7DF91-48AC-4870-A5F2-6CA54E7BD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CF745-B691-49AA-86B4-F3727671C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BFFAB-550F-4AC2-AC0C-21849446B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02B9B-8C2D-4859-B580-6AB896A0F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08B1E-2B17-4771-A172-3A342CD10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222A9-8BC2-4AF2-B290-D87F65739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4CC83-E94D-4400-9223-B64398F8E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8679F-C926-4110-AEA8-8640ECF52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1D8CC-8E10-44BF-AEFC-153484365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21B7D-A63C-4E29-A978-8269DBBBE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E1798-90FD-4F79-8216-B50E807E0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93B68-A12F-443D-BAE1-22E68F88CF3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I Sing the Mighty Power of God</a:t>
            </a:r>
            <a:br>
              <a:rPr sz="40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ords: Issac Watts   Music: Jacob Grimm ©2001 Jacob Grimm Musi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sing the mighty power of God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at made the mountains ris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at spread the flowing seas abroad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built the lofty skie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sing the wisdom that ordaine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sun to rule the day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moon shines full at His command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all the stars obe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sing the mighty power of God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sing the mighty power of God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sing the mighty power of Go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sing the mighty power of God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sing the goodness of the Lord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at filled the earth with food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e formed the creatures with His word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then pronounced them good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ord, how Thy wonders are displayed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ere’er I turn my ey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f I survey the ground I tread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r gaze upon the sk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sing the mighty power of God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sing the mighty power of God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sing the mighty power of Go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sing the mighty power of God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re’s not a plant or flower below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ut makes Thy glories known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clouds arise, and tempests blow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y order from Thy throne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reatures that borrow life from The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re subject to Thy care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re’s not a place where we can fle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ut God is present ther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sing the mighty power of God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sing the mighty power of God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sing the mighty power of Go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sing the mighty power of God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4T00:30:09Z</dcterms:created>
  <dc:creator>Zachary</dc:creator>
  <dc:description/>
  <dc:language>en-US</dc:language>
  <cp:lastModifiedBy>Zachary</cp:lastModifiedBy>
  <dcterms:modified xsi:type="dcterms:W3CDTF">2013-01-05T16:28:02Z</dcterms:modified>
  <cp:revision>9</cp:revision>
  <dc:subject/>
  <dc:title>Hallelujah, Praise Jehovah ©1982 Darwin Jordan Music. Words: William Kirkpatrick. Music: Darwin Jordan.</dc:title>
</cp:coreProperties>
</file>