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C4E0-E489-4A4D-84A5-F70EB18F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F385-6BC6-4246-924D-44EDE7F9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099F-F00C-4574-B7C6-6CC9F48EE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ADCE-D151-4E48-BBCE-49295DD5F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D7DF-4605-42FC-8060-033E5C35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2F5A-2625-43E4-9225-9F324A68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9D2D-AE77-4D91-8949-80457188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4B8B-FE9D-4CA1-B6EE-AD6D9D3F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FAA5-9741-4CCC-97B0-BC9316E5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65C5-7265-4C7D-ADBB-DA453F6D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7F24-3A30-46A9-9BF2-68A66153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413D-F3CF-40C0-8114-B7067615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C470-77D1-41E2-B0EA-223BF041EB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aiah 43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 and music: unkn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you pass through the water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ill be with you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 waves will no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vercome yo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 not fea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I have redeemed you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have called you by na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are M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I am the Lord your Go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 the Lord your God)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the Lord your God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Holy One of Isra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Savi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I am the Lord your Go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 the Lord your God)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the Lord your God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Holy One of Isra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Savi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the Lord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o not fea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the Lord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o not fea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the Lord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o not fea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the Lord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o not fea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you walk through the fi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’ll not be burn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 flames will no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sume yo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 not fea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I have redeemed you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have called you by na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are M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I am the Lord your Go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 the Lord your God)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the Lord your God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Holy One of Isra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Savi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I am the Lord your Go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 the Lord your God)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the Lord your God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a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Holy One of Isra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Savi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the Lord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o not fea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the Lord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o not fea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the Lord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o not fea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the Lord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o not fea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30:09Z</dcterms:created>
  <dc:creator>Zachary</dc:creator>
  <dc:description/>
  <dc:language>en-US</dc:language>
  <cp:lastModifiedBy>Zachary</cp:lastModifiedBy>
  <dcterms:modified xsi:type="dcterms:W3CDTF">2013-01-05T16:40:22Z</dcterms:modified>
  <cp:revision>14</cp:revision>
  <dc:subject/>
  <dc:title>Hallelujah, Praise Jehovah ©1982 Darwin Jordan Music. Words: William Kirkpatrick. Music: Darwin Jordan.</dc:title>
</cp:coreProperties>
</file>