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8677-026D-44CD-B636-E9D6CFE0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DC70-7846-48CC-82AE-D442879A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5277-7B71-4732-B9A0-C310B072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43F3-0BFF-4415-B332-066BFC8C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010D-CFE3-4704-9E00-BCE6689D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7DEA-CDEB-4DAB-BD26-CC2BED54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FE28-D5D5-4530-9BE3-46227803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9DC8-D43A-46F3-917B-1EF26FB8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8FCB-FAD6-4DB9-BD13-A38CB284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4520-AB22-49E4-90C9-B7189263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CCDD-87C2-468D-82F1-3193B60B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B163-75EA-4302-B084-EE7BC6DF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B720-0CD5-4E59-9B51-353863B5B1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aiah 43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 and music: unkn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you pass through the water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be with you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waves will no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vercome y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not fea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I have redeemed you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have called you by na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are M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I am the Lord your Go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the Lord your God)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the Lord your Go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oly One of Isra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Savi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I am the Lord your Go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the Lord your God)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the Lord your Go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oly One of Isra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Savi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the Lor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o not fea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the Lor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o not fea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the Lor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o not fea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the Lor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o not fea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you walk through the fi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’ll not be burn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flames will no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sume y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not fea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I have redeemed you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have called you by na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are M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I am the Lord your Go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the Lord your God)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the Lord your Go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oly One of Isra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Savi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I am the Lord your Go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the Lord your God)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the Lord your Go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oly One of Isra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Savi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the Lor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o not fea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the Lor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o not fea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the Lor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o not fea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the Lor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o not fea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0:09Z</dcterms:created>
  <dc:creator>Zachary</dc:creator>
  <dc:description/>
  <dc:language>en-US</dc:language>
  <cp:lastModifiedBy>Zachary</cp:lastModifiedBy>
  <dcterms:modified xsi:type="dcterms:W3CDTF">2013-01-05T16:40:22Z</dcterms:modified>
  <cp:revision>14</cp:revision>
  <dc:subject/>
  <dc:title>Hallelujah, Praise Jehovah ©1982 Darwin Jordan Music. Words: William Kirkpatrick. Music: Darwin Jordan.</dc:title>
</cp:coreProperties>
</file>