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EC7-ACBF-4255-ADD5-19FCBF38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478-F1AA-4AC4-9B1F-E99BD2C2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724-3B89-490A-BE46-37073FEE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B27-7B3D-4198-8195-A8AAE5BF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55B-1832-47FE-8704-710269D3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386-5C02-4F8E-8C59-86DCB79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503-E517-400F-8673-B56644A7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C64-2704-4393-B1E3-4A896554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967-23B3-445C-8E03-73A08C67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727-2F82-475C-B4FD-AE0909B4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E67-D9F9-4902-A5EB-17DC726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AE7-D113-458E-AA33-F3F04273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417F-3912-4697-BD07-638778E640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he Cross of Christ I Glory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Bowring   Music: Brian Moss  ©2001 Parson John Publishing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cross of Christ I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ering o’er the wrecks of ti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light of sacred 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thers round its head subl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woes of life o’er take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s deceive, and fears ann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ver shall the cross forsake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It glows with peace and jo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sun of bliss is bea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ght and love upon my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cross the radiance strea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s more luster to the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ne and blessing, pain and pl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e cross are sanctif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ace is there that knows no m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s that through all time ab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32:58Z</dcterms:modified>
  <cp:revision>12</cp:revision>
  <dc:subject/>
  <dc:title>Hallelujah, Praise Jehovah ©1982 Darwin Jordan Music. Words: William Kirkpatrick. Music: Darwin Jordan.</dc:title>
</cp:coreProperties>
</file>