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A16-2CCB-4AAB-88F1-2BB360EF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56B-CCC8-481A-B6BA-129DCA1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D7D-F82C-4167-8ABA-5B313AB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7B2-5DDD-4D77-8DAE-8CEE5362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D6B-318D-43C9-B48F-F1247110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AA9-B8EF-46F2-8F42-5BB459E6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7ED-34A0-4609-8C25-8C4A1315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354-E61C-423F-ABF7-A965EC99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540-78A3-4EDF-9BAD-FD1BEE0B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AC0-6D2C-4E09-BDD9-E2E64B1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CD2-6976-4FAD-9356-9227A05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E9B-73F5-4AF7-AD21-825F900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6F5-594E-41CD-9010-7BA4CD9D3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 Cross of Christ I Glory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Bowring   Music: Brian Moss  ©2001 Parson John Publishing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cross of Christ I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ering o’er the wrecks of ti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light of sacred 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thers round its head subl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woes of life o’er take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s deceive, and fears ann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shall the cross forsake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It glows with peace and j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sun of bliss is bea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 and love upon my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cross the radiance strea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s more luster to the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ne and blessing, pain and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e cross are sanctif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is there that knows no m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s that through all time ab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2:58Z</dcterms:modified>
  <cp:revision>12</cp:revision>
  <dc:subject/>
  <dc:title>Hallelujah, Praise Jehovah ©1982 Darwin Jordan Music. Words: William Kirkpatrick. Music: Darwin Jordan.</dc:title>
</cp:coreProperties>
</file>