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282-6126-4720-9647-1CC88F2C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FF32-029B-4839-A794-839B528D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3E7C-4760-4217-B7C9-8D0A2EFE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340-B046-4439-BEAC-9569C538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029-E5B7-42AA-8A2D-0C882FB8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779-DF9B-48E4-9FD1-F315553C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AA1-F501-44E9-AAB4-05DAFDD0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C1B-5314-435B-9752-DA19CADD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230A-9CEE-40CE-860F-D2E3439D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9E08-6465-43B0-9497-A23D9451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2F4-8E5D-4A96-8CCA-1441337B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620-FD56-42C2-8242-A02EAE80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3191-A10D-4B23-9ADC-46CEF5F186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 Need Thee Every Hour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Annie Hawks   Music: Kevin Twit  ©1998 Kevin Twit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ery hour, most gracious Lor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tender voice like Thine can peace aff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ery hour, stay Thou nearb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mptations lose their power when Thou art nig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, O I need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I need Thee every hou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you Lord, O bless me n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avior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ery hour, in joy or pa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quickly and abide, or life is v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ery hour, teach me Thy wil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y rich promises in me fulf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, O I need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I need Thee every hou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you Lord, O bless me n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avior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ery hour, most Holy O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ake me Thine indeed, Thou blessed 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, O I need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I need Thee every hou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you Lord, O bless me n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avior, I come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ery hou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ery hou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ery hou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ery hou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26:32Z</dcterms:modified>
  <cp:revision>8</cp:revision>
  <dc:subject/>
  <dc:title>Hallelujah, Praise Jehovah ©1982 Darwin Jordan Music. Words: William Kirkpatrick. Music: Darwin Jordan.</dc:title>
</cp:coreProperties>
</file>