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CDD-E554-49B7-83D8-8A0B8571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4EB-75D3-4E3E-BCD0-624038E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863-6A4C-41D6-88BB-2D0C35BB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6AF-2397-4565-955E-CB12EA1E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429-4F97-4C74-99F7-E946509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A82-19C3-499E-8082-E8ED9A4A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35A-380C-4E0A-881B-9521136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446-5B93-4549-9CA9-E1BD6B7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F03-68AF-47C7-9E78-5FE72D64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20-DDB5-4241-BB3F-3B691E0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444-A0D5-417D-90AD-0DCCB4C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ED9-0C90-4180-8672-BC96490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DE4-AA02-4305-A0E4-4F7BA1293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Need Thee Every Hou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nnie Hawks   Music: Kevin Twit  ©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most gracious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tender voice like Thine can peace aff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stay Thou nearb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ations lose their power when Thou art n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in joy or p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quickly and abide, or life is v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teach me Thy wi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rich promises in me fulf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most Holy 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ke me Thine indeed, Thou blessed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6:32Z</dcterms:modified>
  <cp:revision>8</cp:revision>
  <dc:subject/>
  <dc:title>Hallelujah, Praise Jehovah ©1982 Darwin Jordan Music. Words: William Kirkpatrick. Music: Darwin Jordan.</dc:title>
</cp:coreProperties>
</file>