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8F8-98D2-43F2-9CF7-DF1AF432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31B-11E8-41F3-84BC-5C84ACF1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0D1-E399-4380-A4EF-AF8678CE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604-3D50-400C-9EDA-7DA2817C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E34-2BAE-4700-B058-1AC57B92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32E-AB8F-4E13-9C1B-A9753EE6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1EF-3189-44AC-B538-74CF6C77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9FF-23D1-4E88-8012-CC8B00F2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F50-F97F-4253-A396-90BD5B6A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BDE-E1A2-41DC-BF60-5ABDB46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AFB-B3EA-441E-BEED-14161921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C2C-79DC-4653-A87D-3BB320B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7601-D5A9-4E96-98F5-96EF681BEC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mortal, Invisible God Only Wise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Walter Smith   Music: Welsh Folk Tune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mortal, invisible, God only w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light inaccessible hid from our ey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blessed, most glorious, the Ancient of D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mighty, victorious, Thy great name we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resting, unhasting, and silent as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anting, nor wasting, Thou rulest in m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justice, like mountains, high soaring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clouds, which are fountains of goodness and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all, life Thou givest, to both great and sma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ll life Thou livest, the true life of a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lossom and flourish as leaves on the tr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ther and perish - but naught changeth Th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Father of glory, pure Father of l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angels adore Thee, all veiling their sigh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praise we would render; O help us to 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only the splendor of light hideth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31:31Z</dcterms:modified>
  <cp:revision>11</cp:revision>
  <dc:subject/>
  <dc:title>Hallelujah, Praise Jehovah ©1982 Darwin Jordan Music. Words: William Kirkpatrick. Music: Darwin Jordan.</dc:title>
</cp:coreProperties>
</file>