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684-CB06-4AD5-A2C3-F68AD84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C9E-6340-4FD2-8344-FA0F8EAA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3BC-D6AE-4110-A927-245B01EA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3A8-1094-40DD-9DE8-FDD3E55B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B0E-63ED-435B-9BD1-1DA080D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0E5-E156-4670-B1FE-F43B19C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264-462B-40CE-A22C-AF94847F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48D-403D-4853-A4F4-6B8BB88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EC5-1563-4F28-86DD-E8CF2C1B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B01-0F0B-4565-9606-AA192E4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93C-B909-4938-A0CA-AE35818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8F4-0E32-4E06-A0E7-85813F02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AD4C-2725-468B-9915-93FC0E6793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ortal, Invisible God Only Wis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alter Smith   Music: Welsh Folk Tune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mortal, invisible, God only w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ght inaccessible hid from our ey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blessed, most glorious, the Ancient of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ighty, victorious, Thy great name we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resting, unhasting, and silent as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anting, nor wasting, Thou rulest in m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justice, like mountains, high soaring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louds, which are fountains of goodness and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ll, life Thou givest, to both great and sma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life Thou livest, the true life of a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lossom and flourish as leaves on the t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er and perish - but naught changeth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Father of glory, pure Father of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angels adore Thee, all veiling their s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raise we would render; O help us to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nly the splendor of light hideth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1:31Z</dcterms:modified>
  <cp:revision>11</cp:revision>
  <dc:subject/>
  <dc:title>Hallelujah, Praise Jehovah ©1982 Darwin Jordan Music. Words: William Kirkpatrick. Music: Darwin Jordan.</dc:title>
</cp:coreProperties>
</file>