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EAF-F930-4EA5-A398-277E659E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350-7CA6-4356-9FFD-0CE176D1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26D-6DE6-4B9A-9481-5233705E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57B-6C8E-41F5-B8DF-947655EB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41A3-FBC1-48BD-A931-6BEA8D81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B44-253F-4CC1-84DC-2C163255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285-BFBF-4A98-8375-C4F1CCEF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DB26-1798-4FBB-B247-468ECB9A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10E-74D5-4A9D-9B0F-E09AA38F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48A-5F96-4141-8455-9D90F62C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3F9-86ED-4872-A44F-5A4C104C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324-195D-4605-A190-DE3DA079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9F2D-67D1-42E3-BD0C-FE82EEF35F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 Heard the Voice of Jesus Say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oratius Bonar   Music: Kevin Twit  ©1998 Kevin Twit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eard the voice of Jesus s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unto Me and res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y down, O weary one lay d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head upon My breast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me to Jesus as I wa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weary, worn and sa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found in Him my resting pl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 has made me gla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eard the voice of Jesus s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old I freely g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iving water; thirsty 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op down and drink, and liv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me to Jesus, and I dr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at life-giving 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thirst was quenched, my soul reviv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now I live in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eard the voice of Jesus s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is dark world’s ligh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 unto Me, thy morn shall ri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thy days be bright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ooked to Jesus, and I f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m my star, my su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that light of life I’ll wal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 pilgrim days are d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23:56Z</dcterms:modified>
  <cp:revision>7</cp:revision>
  <dc:subject/>
  <dc:title>Hallelujah, Praise Jehovah ©1982 Darwin Jordan Music. Words: William Kirkpatrick. Music: Darwin Jordan.</dc:title>
</cp:coreProperties>
</file>