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A3F-408B-4C75-813C-328416EC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E41-1645-4B41-8BA1-C623DFFE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C1F-71C5-4217-9D0D-E86BFAFB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B53-DDCA-48E5-8EAB-7747DE09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1A2-BA28-4C37-B5B1-8EA3ADAA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C04-BD64-45B9-86F5-B25EC1C6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2BF-CBE1-4BED-8E53-86418B34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772-2BC3-4231-8FFE-BDA9B900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303-C9C7-4B90-BD17-F776AA9A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B82-5C7B-4C57-AE86-6BEE78D7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6FC-C3D5-4003-9BB4-0FE7C81C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9D8-3587-45F5-B98E-1444FB59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F81A-40EF-476E-9DBE-ACFE45DE61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Heard the Voice of Jesus Say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oratius Bonar   Music: Kevin Twit  ©1998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eard the voice of Jesus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unto Me and re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y down, O weary one lay d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head upon My breast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me to Jesus as I wa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weary, worn and sa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ound in Him my resting pl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has made me g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eard the voice of Jesus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I freely g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iving water; thirsty 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op down and drink, and liv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me to Jesus, and I dr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at life-giving 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thirst was quenched, my soul reviv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w I live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eard the voice of Jesus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is dark world’s l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unto Me, thy morn shall r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y days be bright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oked to Jesus, and I f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m my star, my su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at light of life I’ll wa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pilgrim days are d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23:56Z</dcterms:modified>
  <cp:revision>7</cp:revision>
  <dc:subject/>
  <dc:title>Hallelujah, Praise Jehovah ©1982 Darwin Jordan Music. Words: William Kirkpatrick. Music: Darwin Jordan.</dc:title>
</cp:coreProperties>
</file>