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AEA-3A8E-4FC1-B063-F6A17CE2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9D8-E17E-40C2-A4A5-87713B36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BAF-C8B2-49D0-BFE6-13923D5E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C49-DD32-480F-A4AC-37FB5F9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24A-7357-41C4-9613-F67C32EE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9A8-1AF2-4CD9-A746-06A1E91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B84-9EA8-496A-A8CE-C2550DD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AC9-C467-4F98-98E0-7E84687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274-D006-46A3-A567-0EC3DEFB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883-5865-47DB-B8D5-0F30A29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583-19B1-481E-8788-EFFD938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2B7-129B-46FF-B3DA-59D67589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7621-4862-4578-AC75-12CAB6167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Thou Hast Draw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Benjamin Beddome and  John Rippon   Music: Kevin Twit and Craig Brown ©1997 Kevin Twit Music/ Nomella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from created g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elf, the world, and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fountain of Thy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 me pure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hast drawn a thousand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me cast the Spirit’s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me to Thy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draw me nearer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Mary, draw me to Thy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t and learn Th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hast drawn a thousand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me cast the Spirit’s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all the desert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ords of heavenl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prepared for going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draw me up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 hast drawn a thousand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me cast the Spirit’s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h draw me Lord aga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0:11Z</dcterms:modified>
  <cp:revision>10</cp:revision>
  <dc:subject/>
  <dc:title>Hallelujah, Praise Jehovah ©1982 Darwin Jordan Music. Words: William Kirkpatrick. Music: Darwin Jordan.</dc:title>
</cp:coreProperties>
</file>