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E09-2C3B-4384-A56A-4F235B74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9B9-616C-4F66-B0F4-9B2BCF02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F1A-37EC-4804-B53A-E8C0B5D4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311-A15B-4A36-ACBB-3385EB68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38A-FBE0-4E44-9902-B7B883B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12E-B688-4C82-AC92-851B8E4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788-1BB5-4994-AF58-B6EF9AAC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F79-3692-451E-9E74-A1EB304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B06-64A2-4EBD-83E1-0D350B28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079-53F6-47E3-AD18-880D822C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D75-5352-447D-B7D0-F204B7EB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3F6-EF65-4232-9117-ED8D0951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B82C-E8C7-4A74-A854-5D8886CE63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Thou Hast Draw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Benjamin Beddome and  John Rippon   Music: Kevin Twit and Craig Brown ©1997 Kevin Twit Music/ Nomella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from created g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elf, the world, and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fountain of Thy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 me pur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hast drawn a thousand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me cast the Spirit’s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me to Thy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draw me nearer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Mary, draw me to Thy f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t and learn Th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hast drawn a thousand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me cast the Spirit’s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all the desert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ords of heavenl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prepared for going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draw me up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hast drawn a thousand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me cast the Spirit’s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0:11Z</dcterms:modified>
  <cp:revision>10</cp:revision>
  <dc:subject/>
  <dc:title>Hallelujah, Praise Jehovah ©1982 Darwin Jordan Music. Words: William Kirkpatrick. Music: Darwin Jordan.</dc:title>
</cp:coreProperties>
</file>