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3F9-C44D-4E93-A592-2B702153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A97-2A98-4D08-85E7-9185D61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D30-62CB-4A89-8A30-0989E2B8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D4D-DF67-4586-A237-2F74B56E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DDC-D1AC-417B-9554-88DD8ABF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28A-8493-48D0-8A1C-E583BD77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98B-6D74-48F8-B4CE-C943954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14D-0D30-4DAF-8930-A0D0CD15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B3A-AC82-4B5F-9C06-1F6321C6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EB1-2F39-40BE-92A6-7C98D18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C08-674D-4E2D-B2BC-0A81713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6B7-FAD2-405E-A321-9F12D40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8CA8-DDB0-48A5-A335-0F8DFCD856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Boast No Mor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Sandra McCracken  ©2001 Same Old Dress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, my God, I boast no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all the duties I have d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quit the hopes I held bef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rust the merits of Thy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, for the loss I bear His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my gain I count my lo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ormer pride I call my sh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ail my glory to His cro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and I must and will este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ings but loss for Jesus’ sak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my soul be found in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f His righteousness partak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est obedience of my h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es not appear before Thy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aith can answer Thy dema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pleading what my Lord has d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2:39Z</dcterms:modified>
  <cp:revision>6</cp:revision>
  <dc:subject/>
  <dc:title>Hallelujah, Praise Jehovah ©1982 Darwin Jordan Music. Words: William Kirkpatrick. Music: Darwin Jordan.</dc:title>
</cp:coreProperties>
</file>