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31EC-6CF0-423C-9CDD-1BE774E6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8E1B-2E57-4C4D-BE5B-73947883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4C42-415A-44AD-BABF-25C339F2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DB03-3F92-40A9-9407-246C84D4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AA40-6B1B-46DA-98AD-5D0C5D02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60F-097E-43CE-9BAB-7A72FA7B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1732-BE57-458A-8E3F-AF7E9FB2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306-4A87-4E83-B22C-9D03DE75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F8D7-653E-47FF-8431-3684C7B5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1BA4-A7B4-41FA-B89E-6DBB0771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1896-ECCA-4FCF-8F88-1BC36D01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54A-2975-4C90-84A5-FB170148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2D90-5256-4353-90C1-2F26C3652F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 Boast No More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Isaac Watts   Music: Sandra McCracken  ©2001 Same Old Dress Music (ASCA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, my God, I boast no m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all the duties I have do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quit the hopes I held befo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rust the merits of Thy 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boast no mo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, for the loss I bear His na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my gain I count my los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former pride I call my sha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nail my glory to His cro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boast no mo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, and I must and will este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ings but loss for Jesus’ sak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ay my soul be found in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of His righteousness partak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est obedience of my ha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res not appear before Thy thron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faith can answer Thy demand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pleading what my Lord has d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boast no mo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 m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boast no mo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22:39Z</dcterms:modified>
  <cp:revision>6</cp:revision>
  <dc:subject/>
  <dc:title>Hallelujah, Praise Jehovah ©1982 Darwin Jordan Music. Words: William Kirkpatrick. Music: Darwin Jordan.</dc:title>
</cp:coreProperties>
</file>