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3A46-6B70-4C40-AF85-86D7A5F1D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1B46-0934-4C93-AB41-E67FDDCB1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DCEC-CD53-4EB5-A9D7-7F2766438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428E-30C3-4AEC-97B6-AF4DA0262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C992-FDCC-40CC-B521-294E9AB29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E978-CD4C-4F4B-A3FB-7828911E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7DD4-6C1B-466D-80C6-47D6721F0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8BAA-6579-4734-85BA-25DE3FC40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21CA-CFBE-42EE-B389-A2B064703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BB90-9604-442D-AA75-64EF4398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220B-B089-4ACF-82C7-A35686B2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E39B-6086-4989-B1C8-6FD66B3D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7C442-033E-474A-8006-1A685369F1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 Asked the Lord</a:t>
            </a:r>
            <a:br>
              <a:rPr sz="44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John Newton alt. Laura Taylor Music: Laura Taylor ©2004 double v Music (ASCA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sked the Lord that I might gr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faith and love and every gr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ight more of His salvation kn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eek more earnestly His f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was He who taught me thus to p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He I trust has answered pray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it has been in such a w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 almost drove me to despai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hoped that in some favored hou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t once He'd answer my requ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by His love's constraining po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bdue my sins and give me r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stead of this He made me fe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hidden evils of my he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let the angry powers of H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sault my soul in every p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a more with His own hand He seem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ent to aggravate my wo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rossed all the fair designs I scheme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st out my feelings, laid me l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rd why is this, I trembling cri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lt Thou pursue thy worm to death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Tis in this way" The Lord repli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I answer prayer for grace and faith"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These inward trials I emplo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self and pride to set thee fr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break thy schemes of earthly jo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thou mayest seek thy all in me.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30:09Z</dcterms:created>
  <dc:creator>Zachary</dc:creator>
  <dc:description/>
  <dc:language>en-US</dc:language>
  <cp:lastModifiedBy>Zachary</cp:lastModifiedBy>
  <dcterms:modified xsi:type="dcterms:W3CDTF">2013-01-05T16:20:49Z</dcterms:modified>
  <cp:revision>5</cp:revision>
  <dc:subject/>
  <dc:title>Hallelujah, Praise Jehovah ©1982 Darwin Jordan Music. Words: William Kirkpatrick. Music: Darwin Jordan.</dc:title>
</cp:coreProperties>
</file>