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C8B-93FF-4C0E-8AC7-74D1DB03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B7B-E60B-4CE6-9287-35A26A4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738-E17B-4FED-ACD2-49CE8B33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FDE-F473-4715-BFCC-43DCEB9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A9B-CB7F-41BF-9F13-2E615B5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8B7-AAEB-4689-A8E0-6837349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9D9-50BF-4394-99F2-0AD48B9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759-ECB8-4084-931B-C5E98F28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F2D-BD43-4FA9-ACA5-52DBA66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AB0-9FAC-4F0C-8627-073114C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F7E-890A-495E-A7E5-5F32080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C4-39B8-4F5B-B3DB-86A0C09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0459-5236-415E-B855-7994732FB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sked the Lor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alt. Laura Taylor Music: Laura Taylor ©2004 double v Music (ASC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sked the Lord that I might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faith and love and every 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more of His salvation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eek more earnestly His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as He who taught me thus to p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I trust has answered pray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t has been in such a 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lmost drove me to des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oped that in some favored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once He'd answer my req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His love's constraining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due my sins and give me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ead of this He made me fe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dden evils of my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the angry powers of H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ault my soul in every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more with His own hand He see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nt to aggravate my w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ssed all the fair designs I sche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t out my feelings, laid me 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why is this, I trembling c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t Thou pursue thy worm to d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is in this way" The Lord re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nswer prayer for grace and faith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se inward trials I empl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self and pride to set thee f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reak thy schemes of earthly 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ou mayest seek thy all in m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20:49Z</dcterms:modified>
  <cp:revision>5</cp:revision>
  <dc:subject/>
  <dc:title>Hallelujah, Praise Jehovah ©1982 Darwin Jordan Music. Words: William Kirkpatrick. Music: Darwin Jordan.</dc:title>
</cp:coreProperties>
</file>