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87A4-7913-4839-B7A8-2873EA36E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D034-AE10-407D-929D-894F8318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F7F9-5C61-4469-BEE9-EB4135538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9A80-4E18-4298-98DC-7A3F4B72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B13A-75D9-435F-8C81-DDDE5024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5A0F-620B-4910-97AA-A89C0825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2CD4-6FAB-4274-B7C3-29AA29E0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D0F0-1CC9-4730-BC23-72626285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9E67-20D0-471F-92C5-A5A308B9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8E74-DD19-4D34-BF4B-E8C11303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4052-E78D-4F59-883E-061A0A9D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C9F7-0A8E-485A-B4C3-83289D58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05FC-0819-43C1-B96B-EE8E76049A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 Am Jesus’ Little Lamb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Henrietta L. von Hayn. Music: Chris Miner ©1997 Christopher Miner 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Jesus’ little lamb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r glad at heart I am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my Shepherd gently guides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nows my need, and well provides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ves me ev’ry day the sa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n calls me by my n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y by day, at home, aw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is my staff and st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I hunger, Jesus feeds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o pleasant pastures leads m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I thirst, He bids me g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the quiet waters flow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so happy as I a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n now the Shepherd’s lamb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hen my short life is end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His angel host attend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shall fold me to His brea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within his arms to re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30:09Z</dcterms:created>
  <dc:creator>Zachary</dc:creator>
  <dc:description/>
  <dc:language>en-US</dc:language>
  <cp:lastModifiedBy>Zachary</cp:lastModifiedBy>
  <dcterms:modified xsi:type="dcterms:W3CDTF">2013-01-05T16:18:46Z</dcterms:modified>
  <cp:revision>4</cp:revision>
  <dc:subject/>
  <dc:title>Hallelujah, Praise Jehovah ©1982 Darwin Jordan Music. Words: William Kirkpatrick. Music: Darwin Jordan.</dc:title>
</cp:coreProperties>
</file>