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B968-DCBA-4623-8DEF-40258558A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1E33-2FE7-4C04-8A8D-871CD410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1E6D-7CBF-44AA-B084-EDBDE8457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3F38-3BBD-4AD9-B380-7F2FA3A3A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2137-505C-45A3-ADEC-C26E2DAD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8B7A-E672-4DF1-ADB4-3813FADA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B4CA-F5B7-47CE-AC64-D697A847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0FEC-4C56-46C1-A5E2-D9E3D1A2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2A5B-F3AA-46C1-AB7E-BEFD64EF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C913-C543-49DA-8EC5-493D8570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0D3C-4782-4913-A81C-96B4F6EF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FE59-2881-4E91-99B3-21B15B8B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523E-4F40-4B57-9340-D143724CAE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 Am Jesus’ Little Lamb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Henrietta L. von Hayn. Music: Chris Miner ©1997 Christopher Miner 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Jesus’ little lamb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r glad at heart I am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my Shepherd gently guides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nows my need, and well provides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ves me ev’ry day the sa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n calls me by my n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y by day, at home, aw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is my staff and st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I hunger, Jesus feeds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o pleasant pastures leads m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I thirst, He bids me g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the quiet waters flow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so happy as I a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n now the Shepherd’s lamb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hen my short life is end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His angel host attend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shall fold me to His brea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within his arms to re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30:09Z</dcterms:created>
  <dc:creator>Zachary</dc:creator>
  <dc:description/>
  <dc:language>en-US</dc:language>
  <cp:lastModifiedBy>Zachary</cp:lastModifiedBy>
  <dcterms:modified xsi:type="dcterms:W3CDTF">2013-01-05T16:18:46Z</dcterms:modified>
  <cp:revision>4</cp:revision>
  <dc:subject/>
  <dc:title>Hallelujah, Praise Jehovah ©1982 Darwin Jordan Music. Words: William Kirkpatrick. Music: Darwin Jordan.</dc:title>
</cp:coreProperties>
</file>