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DA5-2774-4706-BC4F-D5412907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A17-30CE-491E-A256-D587BA3C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54A-4829-4B17-BC9B-02138E09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BEE-DD66-4FED-B1D5-B80A05A5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EFD-67C0-4364-A095-7F1697F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FD4-08B0-4C10-8F8F-F97EA1EC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978-5D79-4616-A18D-E4D42A2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C2B-73DD-439C-8645-BC62D01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9F8-6BD3-425C-930D-90929E4E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AC4-B5FD-4C40-8559-0B4CB6F3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C7C-A404-40C0-B8E0-7597F5FE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588-D8A3-4B9A-AB2B-1C500DC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2B8-0C5A-4A24-9FC1-F7FBD6762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Sweet the Name of Jesus Sound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 Bill Moore Music. Words: John Newton. Music: Alexander Reinagle (arr. Bill Moore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weet the Name of Jesus s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 believer’s e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oothes his sorrow, heals his wou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rives away his f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makes the wounded spirit who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lms the troubled brea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manna to the hungr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the weary,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Name, the rock on which I bui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hield and hiding pl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ever failing treasury, fil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boundless stores of gra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e, my prayers acceptance 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hough with sin defil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an accuses me in v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am owned a chi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my Shepherd, Brother, Frie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rophet, Priest, and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ord, my life, my way, My e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praise I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is the effort of my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old my warmest thou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en I see Thee as Thou 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praise Thee as I ou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 then I would Thy love procl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very fleeting br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y the music of Th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resh my soul in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4:16Z</dcterms:created>
  <dc:creator>Zachary</dc:creator>
  <dc:description/>
  <dc:language>en-US</dc:language>
  <cp:lastModifiedBy>Zachary</cp:lastModifiedBy>
  <dcterms:modified xsi:type="dcterms:W3CDTF">2013-01-04T01:12:28Z</dcterms:modified>
  <cp:revision>1</cp:revision>
  <dc:subject/>
  <dc:title>How Sweet the Name of Jesus Sounds © Bill Moore Music. Words: John Newton. Music: Alexander Reinagle (arr. Bill Moore).</dc:title>
</cp:coreProperties>
</file>