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07B-BBB8-4494-8749-5FC74D4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1B6-2A86-45A5-8C20-AC534CE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6E2-6AA1-4E02-9C75-E8A532B0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E96-DE50-4A4E-A43B-B14FD920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D5E-6885-4068-A92A-8B951FE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38A-8759-4D92-8E80-5F5A416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1EB-915B-4A9C-87ED-87702E4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C71-1209-4744-8FE0-E90A16A1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6BE-2A4A-4E4A-B4C0-83921B7A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186-721E-41CE-8986-87A50F9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54A-173B-453D-851E-5E22ED9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548-AFB5-4689-AB62-8990D14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B8BF-7BE8-4DB1-8BE6-B08FAAA61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Sweet the Name of Jesus Sound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 Bill Moore Music. Words: John Newton. Music: Alexander Reinagle (arr. Bill Moore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weet the Name of Jesus s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 believer’s 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oothes his sorrow, heals his wou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rives away his f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makes the wounded spirit who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lms the troubled brea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manna to the hungr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the weary,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Name, the rock on which I bu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ield and hiding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ever failing treasury, fil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boundless stores of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e, my prayers acceptance 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with sin defil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an accuses me in v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am owned a chi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Shepherd, Brother, Fri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rophet, Priest, and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, my life, my way, My e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praise I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is the effort of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old my warmest though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en I see Thee as Thou 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praise Thee as I ou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 then I would Thy love procl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fleeting bre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y the music of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resh my soul in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4:16Z</dcterms:created>
  <dc:creator>Zachary</dc:creator>
  <dc:description/>
  <dc:language>en-US</dc:language>
  <cp:lastModifiedBy>Zachary</cp:lastModifiedBy>
  <dcterms:modified xsi:type="dcterms:W3CDTF">2013-01-04T01:12:28Z</dcterms:modified>
  <cp:revision>1</cp:revision>
  <dc:subject/>
  <dc:title>How Sweet the Name of Jesus Sounds © Bill Moore Music. Words: John Newton. Music: Alexander Reinagle (arr. Bill Moore).</dc:title>
</cp:coreProperties>
</file>