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3D1-9624-4785-8FB3-7F4A8252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243-B38A-42AD-9F61-88B645B5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4CA-63FD-4251-91C3-165AA10B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D26-B98A-4977-9940-200F572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4EB-48BB-405B-B915-F0E36AB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C19-527F-4594-A5A7-8A960D2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032-6AE0-4679-8666-1E55E2DE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282-610A-4AEC-B482-C9DE70C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3C9-1F32-433A-BC6A-F28F91A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2C9-D3A2-49C1-8AB2-3F69367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5C3-11C5-41BE-9DE9-6990DEF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15C-2CC9-4E7F-9728-5B822AB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6E0-A25F-4E2C-BB3D-666C16B64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Sweet and Awful Is the Plac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. Words: Isaac Watts. Music: ancient Irish tu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weet and awful is the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hrist within the doo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everlasting love displ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oicest of her sto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all our hearts and all our so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to admire the fea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of us cry, with thankful tongu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hy was I a guest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was I made to hear Thy v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nter while there’s roo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sands make a wretched choi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ather starve than com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as the same love that spread the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weetly drew us 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se we had still refused to tast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rished in our s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ty the nations, O our G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 the earth to c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Thy victorious Word abroa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ing the strangers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long to see Thy churches fu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ll the chosen 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, with one voice and heart and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Thy redeeming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48:48Z</dcterms:created>
  <dc:creator>Zachary</dc:creator>
  <dc:description/>
  <dc:language>en-US</dc:language>
  <cp:lastModifiedBy>Zachary</cp:lastModifiedBy>
  <dcterms:modified xsi:type="dcterms:W3CDTF">2013-01-04T00:52:15Z</dcterms:modified>
  <cp:revision>1</cp:revision>
  <dc:subject/>
  <dc:title>How Sweet and Awful Is the Place Public Domain. Words: Isaac Watts. Music: ancient Irish tune.</dc:title>
</cp:coreProperties>
</file>