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4195-0B09-406D-B052-BCA5A5E5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4D7-4C15-45AB-BBC1-C2E9674A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2B03-38AF-4F9D-B98B-75720E5A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3B4-B805-4E9B-9D06-8A1EADB6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50C-8CA4-43BE-890B-AAA5C8F9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FBB6-2326-46FC-ABB9-4DACBBC2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34F-3801-46E7-80BF-B52117B0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2ED-6BC3-4A7E-8758-1129D1F8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18A-3AA6-44C1-A5BB-01E5287C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995-D309-4F3C-856E-6C509131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296-3428-45F2-9A19-54BD143F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867-4D40-43C4-975A-DBD81E13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296F-BB21-40BA-B81D-8EDE202388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Sweet and Awful Is the Place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Domain. Words: Isaac Watts. Music: ancient Irish tun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sweet and awful is the p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Christ within the doo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everlasting love displ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oicest of her sto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all our hearts and all our so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to admire the fe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of us cry, with thankful tongu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why was I a guest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228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was I made to hear Thy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enter while there’s roo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ousands make a wretched ch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ather starve than come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as the same love that spread the fe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sweetly drew us 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se we had still refused to tast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erished in our s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ty the nations, O our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train the earth to co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nd Thy victorious Word abroa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ring the strangers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long to see Thy churches fu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all the chosen 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, with one voice and heart and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 Thy redeeming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48:48Z</dcterms:created>
  <dc:creator>Zachary</dc:creator>
  <dc:description/>
  <dc:language>en-US</dc:language>
  <cp:lastModifiedBy>Zachary</cp:lastModifiedBy>
  <dcterms:modified xsi:type="dcterms:W3CDTF">2013-01-04T00:52:15Z</dcterms:modified>
  <cp:revision>1</cp:revision>
  <dc:subject/>
  <dc:title>How Sweet and Awful Is the Place Public Domain. Words: Isaac Watts. Music: ancient Irish tune.</dc:title>
</cp:coreProperties>
</file>