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800-222E-4D77-8193-F0A04E34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0F0-27AD-427A-81A3-61268B1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1F3-E083-4B5D-B007-3B8971D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199-87B6-4922-BECB-5A40BA4C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C50-099E-4106-8A0F-48A5A2E8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F4B-A0DF-44F8-9493-28E6AE6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26C-1733-4BB3-9DDB-1270643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5E8-BF68-4568-B44C-F912030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08D-7016-41C7-82A3-903C43B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BBB-F452-48C7-AA6B-9E7ACBB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16A-D100-49DF-82C1-B26EBCF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ED7-9A8F-4D33-98EA-B0607E1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50C-2FDB-4271-A37C-B84678BB3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Firm a Foundatio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R. Keene. Music: American Folk Tu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irm a found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saints of the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laid for your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excellent Word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re can He s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to you He hath s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, who unto Jes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refuge have fl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cond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ickness, in heal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overty's va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abounding in wealt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home and abroa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land, on the s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y days may dema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My strength ever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ear not, I am with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 not dism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y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ll still give thee ai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strengthe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thee, and cause thee to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held by my righte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nipotent hand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hen through the deep wa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l thee to g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ivers of grie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not thee over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will be with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roubles to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nctify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deepest distress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hen through fiery tria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athway shall li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race, all suffici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y suppl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lame shall not hurt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l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dross to consu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gold to refin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soul that on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h leaned for repo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not, I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ert to his fo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oul, though all he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endeavor to break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never, no n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never forsake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11:52Z</dcterms:modified>
  <cp:revision>3</cp:revision>
  <dc:subject/>
  <dc:title>Hallelujah, Praise Jehovah ©1982 Darwin Jordan Music. Words: William Kirkpatrick. Music: Darwin Jordan.</dc:title>
</cp:coreProperties>
</file>