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3E1-A937-45F4-8771-11E8A49A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341-6C17-4F9D-A018-9B9FE26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FCA-50BF-4DAD-BAD5-4388FB4B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975-E4A9-4799-91DE-896399AA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0DC-7EF0-4EE2-847D-B758869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514-5775-4002-B138-4AD8F2B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5F1-0B4A-4C2B-94F5-80FCAE5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2F9-38BC-4BD1-B4A1-62BC776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DE6-3CD3-4F12-B417-BB9C29A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62D-FDB0-4800-8671-0FF00AD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007-24AE-4081-AB5C-56EDF4C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535-8F4D-4396-8B33-144D327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7119-7CE9-4942-B88E-BA0034019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Firm a Foundatio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R. Keene. Music: American Folk Tu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irm a found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saints of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laid for your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excellent Word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re can He s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to you He hath s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, who unto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refuge have fl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cond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ickness, in heal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overty's va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abounding in weal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home and abro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land, on the s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y days may dema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My strength ev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ear not, I am with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 not dism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y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ll still give thee ai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strengthe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thee, and cause thee to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held by my righte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nipotent hand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hen through the deep wa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l thee to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ivers of grie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not thee ov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will be with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roubles to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nctify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deepest distress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hen through fiery tria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athway shall li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e, all suffici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y suppl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lame shall not hurt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l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dross to consu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gold to refin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soul that on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h leaned for repo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not, I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ert to his fo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oul, though all he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endeavor to break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never, no n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never forsak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11:52Z</dcterms:modified>
  <cp:revision>3</cp:revision>
  <dc:subject/>
  <dc:title>Hallelujah, Praise Jehovah ©1982 Darwin Jordan Music. Words: William Kirkpatrick. Music: Darwin Jordan.</dc:title>
</cp:coreProperties>
</file>