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4C2-AB8E-4233-91F0-E4561FE8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94F-51FE-4781-A2E1-0F66E356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95B-069E-4920-9FB1-A411E156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143-7FE2-457A-9A53-FEADCB38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C3A-F032-4543-A411-E1E83294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C10-2CE3-4829-93D1-051157F4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A2B-E90A-4873-8D06-D4A2BB11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A80-A9FF-4869-9266-BA2457A3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42A-02F6-4DC3-9188-CBB7A859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EFA-0599-441B-AD0C-E54ED37F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D28-700E-43E3-A663-637B3A28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940-D874-4D14-AB90-EB766D7C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9426-4A3F-41B0-A2CE-30A4EDD680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ly, Holy, Holy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omain Words: Reginald Heber. Music: John Dyk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, holy, ho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God Almight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in the morn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ong shall rise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, holy, ho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iful and might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in three Person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Trinit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, holy, ho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saints ador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sting down their golden crow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ound the glassy sea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rubim and seraph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lling down before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ert and art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more shall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, holy, holy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 darkness hide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 eye of sinful m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 may not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; Only Thou art hol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none beside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ect in pow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love, and pur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, holy, hol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God Almighty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y works shall praise Thy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arth, and sky, and se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, holy, hol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iful and might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in three Perso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Trinit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09:33Z</dcterms:modified>
  <cp:revision>2</cp:revision>
  <dc:subject/>
  <dc:title>Hallelujah, Praise Jehovah ©1982 Darwin Jordan Music. Words: William Kirkpatrick. Music: Darwin Jordan.</dc:title>
</cp:coreProperties>
</file>