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3F4-BCE2-49DE-90DD-58CDE8E5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E0D2-2567-47F3-AEC2-EFEE487A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FB77-DDFC-48DD-946D-E87EDB1F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011C-ECBE-4D92-9D53-2F6A9D3E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5D0-F30F-42BD-B27C-01A438B6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2FF-42FE-4837-8239-B9C5606D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0124-0AC7-4936-AD94-A389C0AC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9CAC-294E-4E54-B2CF-3455D4ED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702-CE2E-4FE9-A196-3065D89B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AB5-50D0-4E2E-B6E5-BA8E817D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E00-7F7C-4BCE-8655-76BE6074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34D6-8D1E-4369-AB01-A420C15F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ED3C-5A9E-426F-B05B-9E484B5431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ly, Holy, Holy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Domain Words: Reginald Heber. Music: John Dyk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y, holy, hol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God Almight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ly in the morn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song shall rise to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y, holy, ho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rciful and might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in three Person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ssed Trinit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y, holy, hol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saints adore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sting down their golden crow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ound the glassy sea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rubim and seraph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lling down before The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ert and art 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 more shall 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y, holy, holy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the darkness hide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the eye of sinful ma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lory may not s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; Only Thou art hol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is none beside The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fect in pow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love, and pur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y, holy, hol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God Almighty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y works shall praise Thy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arth, and sky, and se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y, holy, hol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rciful and might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in three Person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ssed Trinit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09:33Z</dcterms:modified>
  <cp:revision>2</cp:revision>
  <dc:subject/>
  <dc:title>Hallelujah, Praise Jehovah ©1982 Darwin Jordan Music. Words: William Kirkpatrick. Music: Darwin Jordan.</dc:title>
</cp:coreProperties>
</file>