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0578-6B6B-4B67-8528-AFAF4B9D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C3D1-B91F-4DA8-AC6E-81224B71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A0CC-A7B9-4316-8103-08B2F133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829C-8E2E-4799-829C-25884A19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DE32-B8CD-4916-9988-9A037D93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5616-B942-4E07-A8EF-595DFB40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7320-D66D-486F-B2D6-2EAABC10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F07E-CB0D-476B-BDBF-013E703F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1691-753E-4664-A208-20C30B74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CB96-851A-4B69-A6D8-E91A92EB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479B-872C-4C13-A87E-BFEE738B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DA75-181E-458E-A078-20B5917D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0251-C244-49E4-A609-73364F02E8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is Love Can Never Fai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2004 Christopher Miner Music. Words: E.S. Hall. Music: Christopher Min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I do not ask to see the w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feet will have to tread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t only that my soul may fe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pon the living Brea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s better far that I should wal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faith close to His side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may not know the way I go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t oh, I know my Guid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0" y="53352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 love can never fail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 love can never fail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soul is satisfied to kno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 love can never fai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soul is satisfied to kno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 love can never fai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0" y="38736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And if my feet would go astray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y cannot, for I kn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at Jesus guides my falt’ring steps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joyfully I g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tho’ I may not see His face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faith is strong and clear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at in each hour of sore distr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Savior will be ne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53352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 love can never fail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 love can never fail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soul is satisfied to kno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 love can never fai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soul is satisfied to kno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 love can never fai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0" y="38736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I will not fear, tho’ darkness co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road o’er all the land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I may only feel the tou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His own loving han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tho’ I tremble when I thin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weak I am, and frail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soul is satisfied to kn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 love can never fai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0" y="53352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 love can never fail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 love can never fail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soul is satisfied to kno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 love can never fai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soul is satisfied to kno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 love can never fai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03:06:49Z</dcterms:created>
  <dc:creator>Zachary</dc:creator>
  <dc:description/>
  <dc:language>en-US</dc:language>
  <cp:lastModifiedBy>Zachary</cp:lastModifiedBy>
  <dcterms:modified xsi:type="dcterms:W3CDTF">2013-01-04T22:49:09Z</dcterms:modified>
  <cp:revision>2</cp:revision>
  <dc:subject/>
  <dc:title>Slide 1</dc:title>
</cp:coreProperties>
</file>