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0744-2FB0-4AC6-81B3-E4C2E401D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97C0-FBEF-4C8A-AEAD-4DBC1D09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78A4-7AA2-4E12-A7AF-885AB80C1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D3C5-FF46-4A4B-998A-01FE34609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F946-BB52-4AAE-8108-6C7AC569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3CE9-9526-4572-92A5-89A86BBA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9AD2-C833-4760-B26F-29975171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94A8-F0D5-4944-965B-DF8D903D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B1D8-0580-43CE-B487-FB8FB73D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CDAE-CDC0-4861-A614-BB501D23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4418-AFDF-4CC9-9AEF-00A5471F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FD01-F6A0-4514-B6E2-67FCBFEB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34C3-0C06-4D35-86BA-6786DF3F2F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914400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is Love Can Never Fai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2004 Christopher Miner Music. Words: E.S. Hall. Music: Christopher Min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 I do not ask to see the w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y feet will have to tread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t only that my soul may fe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pon the living Brea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is better far that I should wal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faith close to His side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 may not know the way I go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t oh, I know my Guid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3"/>
          <p:cNvSpPr/>
          <p:nvPr/>
        </p:nvSpPr>
        <p:spPr>
          <a:xfrm>
            <a:off x="0" y="53352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 love can never fail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 love can never fail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y soul is satisfied to know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 love can never fai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y soul is satisfied to know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 love can never fai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0" y="38736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 And if my feet would go astray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y cannot, for I kno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at Jesus guides my falt’ring steps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 joyfully I g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tho’ I may not see His face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y faith is strong and clear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at in each hour of sore distr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y Savior will be nea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0" y="53352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 love can never fail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 love can never fail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y soul is satisfied to know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 love can never fai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y soul is satisfied to know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 love can never fai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0" y="38736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. I will not fear, tho’ darkness co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broad o’er all the land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I may only feel the tou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His own loving han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tho’ I tremble when I thin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weak I am, and frail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y soul is satisfied to kno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 love can never fai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0" y="53352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 love can never fail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 love can never fail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y soul is satisfied to know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 love can never fai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y soul is satisfied to know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 love can never fai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03:06:49Z</dcterms:created>
  <dc:creator>Zachary</dc:creator>
  <dc:description/>
  <dc:language>en-US</dc:language>
  <cp:lastModifiedBy>Zachary</cp:lastModifiedBy>
  <dcterms:modified xsi:type="dcterms:W3CDTF">2013-01-04T22:49:09Z</dcterms:modified>
  <cp:revision>2</cp:revision>
  <dc:subject/>
  <dc:title>Slide 1</dc:title>
</cp:coreProperties>
</file>