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9155-4F75-4A69-BB01-93890F3D9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7412-087A-4475-AC68-E322D142A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53DA-14C2-4408-A1DE-AA2999B0C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AB3A-36FF-424B-9BA9-62799B016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8F0D-A635-4FBA-A385-E1E068DCC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CADF-802D-47A6-B118-76F7BAFC2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30E2-E555-4E1A-8789-2E1E1C278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60AE-6262-4A9A-BCD7-E369B8A01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AF47-81AE-4CC8-9F1B-0F6632C61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B0A5-4CD6-4294-9E1F-ADC17CEC0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BF64-BE2C-4AB9-9B64-29B450913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83BE-3157-48EF-8410-378BC2FCD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CD527-A97D-4EB6-BB5F-F0596F1B8CE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ear Our Prayer (The Litany Song)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 by Robert Grant alt by Kevin Twit, music by Kevin Twit. © 2007 Kevin Twit Music (ASCA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we come O Christ to Thee, when we bow adoring kn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Hear our prayer, hear our cry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Thy victory and strife, by the merits of your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Hear our prayer, hear our cry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h by all the pains and woe, suffered once for man be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Listen to our cry – hear our sacred litany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Thy helpless infant years, By Thy life of want and t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Hear our prayer, hear our cry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Thy days of sore distress, in the savage wilder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Hear our prayer, hear our cry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the dread mysterious hour, (of the) insulting tempter’s po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Listen to our cry – hear our sacred litany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the sacred griefs that wept, O’er the grave where Laz’rus sle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Hear our prayer, hear our cry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the boding tears which flowed, over Salem’s loved ab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Hear our prayer, hear our cry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Thy hour of dire despair, By Thy agony of pray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Listen to our cry – hear our sacred litany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the gloom that veiled the skies, Over dreadful sacrif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Hear our prayer, hear our cry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the vault whose dark abode, Held in vain the rising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Hear our prayer, hear our cry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from earth to heav’n restored, Mighty re-ascended Lord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Listen to our cry – hear our sacred litany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0:18:14Z</dcterms:created>
  <dc:creator>Zachary</dc:creator>
  <dc:description/>
  <dc:language>en-US</dc:language>
  <cp:lastModifiedBy>Zachary</cp:lastModifiedBy>
  <dcterms:modified xsi:type="dcterms:W3CDTF">2013-01-04T00:19:46Z</dcterms:modified>
  <cp:revision>1</cp:revision>
  <dc:subject/>
  <dc:title>Hear Our Prayer (The Litany Song) Words by Robert Grant alt by Kevin Twit, music by Kevin Twit. © 2007 Kevin Twit Music (ASCAP)</dc:title>
</cp:coreProperties>
</file>