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7758-E9AA-4BBD-8D0A-41546398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CA1-90A4-4923-B7FD-D10C9532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3C7A-018F-4FA9-A03D-8EB0E923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016-539E-43DF-B3F7-E6E2FD89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E889-E998-4E26-8237-5C0C67D2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CBA6-9039-4139-AA7F-7C02E304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45EC-A59C-4CA3-BB28-93193948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D169-8E4E-4E7A-A282-91FA8087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46B-639C-4748-A639-E44B2ABA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0760-5FB2-428A-8002-EF2D0500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3883-C54A-4330-BA43-9444D0F0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12B-BCA4-4E17-905A-1C977620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4C8C-B8E5-4EA3-90BC-58397B807E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ar Our Prayer (The Litany Song)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by Robert Grant alt by Kevin Twit, music by Kevin Twit. © 2007 Kevin Twit Music (ASCA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we come O Christ to Thee, when we bow adoring kn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ar our prayer, hear our cr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y victory and strife, by the merits of your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ar our prayer, hear our cr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 by all the pains and woe, suffered once for man be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sten to our cry – hear our sacred litan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y helpless infant years, By Thy life of want and t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ar our prayer, hear our cr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y days of sore distress, in the savage wilder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ar our prayer, hear our cr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dread mysterious hour, (of the) insulting tempter’s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sten to our cry – hear our sacred litan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sacred griefs that wept, O’er the grave where Laz’rus sl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ar our prayer, hear our cr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boding tears which flowed, over Salem’s loved ab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ar our prayer, hear our cr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y hour of dire despair, By Thy agony of pr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sten to our cry – hear our sacred litan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gloom that veiled the skies, Over dreadful 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ar our prayer, hear our cr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vault whose dark abode, Held in vain the rising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ar our prayer, hear our cr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from earth to heav’n restored, Mighty re-ascended Lor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sten to our cry – hear our sacred litan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18:14Z</dcterms:created>
  <dc:creator>Zachary</dc:creator>
  <dc:description/>
  <dc:language>en-US</dc:language>
  <cp:lastModifiedBy>Zachary</cp:lastModifiedBy>
  <dcterms:modified xsi:type="dcterms:W3CDTF">2013-01-04T00:19:46Z</dcterms:modified>
  <cp:revision>1</cp:revision>
  <dc:subject/>
  <dc:title>Hear Our Prayer (The Litany Song) Words by Robert Grant alt by Kevin Twit, music by Kevin Twit. © 2007 Kevin Twit Music (ASCAP)</dc:title>
</cp:coreProperties>
</file>