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548-EA98-42AB-80AD-9DCCA4A4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C28-3F27-4928-A77D-514952F2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96D-F06E-4B85-B77C-6ABA372A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161-C133-4693-984F-4C5BE0A1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18F-A30F-4C74-B2A0-1C0C2632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B9E-D6AF-4212-BBF3-F985C7D4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ECA-1EBD-4A4E-8A29-23734851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370-D4B7-4BCE-81A0-2A0CFC3E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DD3-8547-4C01-B4DE-D6EEEB74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54C-D1B8-4972-8FBF-962E1F08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87A-6AA5-4276-BC6F-1145AA4C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C6F-FB53-40F7-97EE-B1FFACB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6650-AC26-42E1-A1A1-8291BCD203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l Us, Emmanuel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Cowper. Music: Kevin Twit ©1999 Kevin Twit Music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us, Emmanuel, here we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ing to feel Thy touch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deep wounded souls reach f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 Oh Savior, we are su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faith is feeble, we confess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faintly trust Thy w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ill You pity us the le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at far from You Lor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us, Emmanuel, here we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ing to feel Thy touch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deep wounded souls reach f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 Oh Savior, we are su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 him who once appl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rembling for relief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Lord, I believe," with tears he cri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 help my unbelief!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us, Emmanuel, here we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ing to feel Thy touch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deep wounded souls reach f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 Oh Savior, we are su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, too, who touched you in the p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aling virtue stol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answered, "Daughter, go in peace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faith has made thee whole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us, Emmanuel, here we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ing to feel Thy touch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deep wounded souls reach f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 Oh Savior, we are su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her, with hopes and fears we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ouch You if we m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end us not despairing ho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nd none unhealed away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us, Emmanuel, here we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ing to feel Thy touch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deep wounded souls reach f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 Oh Savior, we are su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08:18Z</dcterms:modified>
  <cp:revision>3</cp:revision>
  <dc:subject/>
  <dc:title>Hallelujah, Praise Jehovah ©1982 Darwin Jordan Music. Words: William Kirkpatrick. Music: Darwin Jordan.</dc:title>
</cp:coreProperties>
</file>