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B32-90E7-4A5C-840C-50CA4B73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ADD-C889-4CF3-8119-7B2722B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3DF-4E0B-4239-8910-144725BD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094-67E9-4446-A0A3-BF72CAA6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807-D34C-46E4-9DEF-C352123E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727-9B95-457B-A450-E9F3233C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8BA-589C-4ADD-B77D-9AD8B9BD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F78-6648-45B3-8895-1F0B00FE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7DF-BE0E-42D1-98F6-06CC9EB5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AC9-6EC3-44D1-8D7F-BE194A6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8FE-6E48-4025-8467-CC9595A3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FBB-A0FF-4087-8233-0BE04AE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C89-CCA4-4ECA-BB68-2840EF9EAB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l Us, Emmanuel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Cowper. Music: Kevin Twit ©1999 Kevin Twit Music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faith is feeble, we confess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faintly trust Thy w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ill You pity us the l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at far from You Lor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 him who once appl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rembling for relief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Lord, I believe," with tears he cri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 help my unbelief!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, too, who touched you in the p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aling virtue stol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answered, "Daughter, go in peace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aith has made thee whol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her, with hopes and fears we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ouch You if we m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end us not despairing h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none unhealed away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us, Emmanuel, here we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ing to feel Thy touch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deep wounded souls reach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h Savior, we are su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08:18Z</dcterms:modified>
  <cp:revision>3</cp:revision>
  <dc:subject/>
  <dc:title>Hallelujah, Praise Jehovah ©1982 Darwin Jordan Music. Words: William Kirkpatrick. Music: Darwin Jordan.</dc:title>
</cp:coreProperties>
</file>