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699-D56E-4837-A193-F70E0F68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13C-29EC-4687-A1D0-3792815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2AA-A547-4754-A634-CA931AE2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8CD-F576-4A2E-9CA9-6E3CA80F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A91-8DCD-4BE7-8C87-D01C0E2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CFF-3FE9-40BA-8F63-305BE37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709-C39A-412B-8B81-07FF0B6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E74-E274-493D-8038-069A38FA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709-4E27-4802-9D57-4859805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5BE-94D3-4CAC-8BB2-BCC691F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AC1-4827-4FCD-ADFD-EBF0B8B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49A-5B9E-4817-A2CC-9C5C7C8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56F-F0A7-4E88-948B-D4C4D051F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st Thou Heard Him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 Rowa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l Littlepage   ©2010 Joel Littlepage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heard Him, seen Him, known Hi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ine a captured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ef among ten thousand own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choose the better pa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strip the seeming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idols of the earth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sense of right or d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sight of peerless wort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at look that melted Pe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at face that Stephen saw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at heart that wept with Ma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alone from idols dra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14:32Z</dcterms:modified>
  <cp:revision>14</cp:revision>
  <dc:subject/>
  <dc:title>By Thy Mercy Words by James J. Cummins Music by Greg Thompson © 2004 Greg Thompson Music</dc:title>
</cp:coreProperties>
</file>