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29C-1131-40D7-9818-944B1DF0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5C0-274A-4C16-BFDA-8AC7E644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E1E-CDD5-4406-9FFA-929B848B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D46-9960-48DB-817F-46BD757A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F64-C2C2-415A-89A7-F78ECDBD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FE8-EEED-4E8E-8CEA-6425A357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D05-AEC6-4E8F-9A2A-4E92DACE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E17-6611-4D72-A391-60E2B147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A7C-13B0-4250-972A-4961D402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619-3642-494F-9B62-9545CE8F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AD3-9D06-4915-994D-DE877AC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81F-FDA5-45FB-A44E-2F7FDCC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1EAA-886C-4FEA-AD8E-4BC082A7B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st Thou Heard Him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 Rowa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l Littlepage   ©2010 Joel Littlepage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heard Him, seen Him, known Hi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ine a captured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ef among ten thousand own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 choose the better pa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strip the seeming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idols of the earth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sense of right or d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sight of peerless wort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at look that melted Pe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at face that Stephen saw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at heart that wept with Ma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alone from idols dra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ivated by His beau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ribute haste to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eerless worth constra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now unrivaled K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14:32Z</dcterms:modified>
  <cp:revision>14</cp:revision>
  <dc:subject/>
  <dc:title>By Thy Mercy Words by James J. Cummins Music by Greg Thompson © 2004 Greg Thompson Music</dc:title>
</cp:coreProperties>
</file>