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2F9-C426-4516-AFE3-6AAF5FB7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5D6-8016-43AA-BA96-C346CFE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CBC-6163-4989-B59C-B4177BD0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113-3A8E-4C1F-A73F-D50E005A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D14-EE39-45D4-A660-4F6C5E41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53F-A23C-45AD-9E76-F50F3FF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BB4-61CD-4961-B0FC-F1DE33DC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4DB-85EA-46AB-ADD7-8F131211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8F8-E3F6-4E70-BA64-2D428815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41E-B094-40BD-A409-F90BE5F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BB8-E46C-45CD-B434-8EDB2A2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94F-D2E9-40CA-8E64-E8A3088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F24-06FD-49C3-8403-7FF98923E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llelujah, Praise Jehovah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1982 Darwin Jordan Music. Words: William Kirkpatrick. Music: Darwin Jord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, praise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Jehovah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the glorious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God through all my d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no confidence in princ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or help on man depe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die, to dust retur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purposes shall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ppy is the man that cho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’s God to be his ai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blest whose hope of bl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Lord his God is stay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and earth the Lord crea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s and all that they cont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elivers from oppress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ghteousness He will maint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od He daily gives the hung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s the mourning prisoner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s those bowed down with angu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s the sightless eyes to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Jehovah loves the righte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stranger He befrie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s the fatherless and wid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gment on the wicked se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, praise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Jehovah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the glorious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God through all my d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all God reigns for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ages He is K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, thy God, O Z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 hallelujahs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4T00:30:49Z</dcterms:modified>
  <cp:revision>1</cp:revision>
  <dc:subject/>
  <dc:title>Hallelujah, Praise Jehovah ©1982 Darwin Jordan Music. Words: William Kirkpatrick. Music: Darwin Jordan.</dc:title>
</cp:coreProperties>
</file>