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346-2D4E-4EBF-8D8C-6614A226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918-A53A-4DC3-AFA9-6D3753E2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324-6AC0-436A-9307-EBA82AE5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AC80-6C34-414D-A438-A99F23B0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5C42-307E-4799-B898-991E3185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8870-9466-4543-8056-6072F25A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AE29-D108-4853-AD45-28081E27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5AE-CBBC-4309-9708-417AE51B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3AC-FD7C-47E1-96F7-EE676273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10E2-5529-487A-8F06-ABCEA6D6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4C3-8E0B-49CD-8098-D3580A52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76A-15DE-404F-8F2F-0581556F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06EE-B3B7-425F-B300-63FBDC1F7D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llelujah, Praise Jehovah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1982 Darwin Jordan Music. Words: William Kirkpatrick. Music: Darwin Jord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, praise Jehova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y soul, Jehovah prai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sing the glorious pra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my God through all my day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t no confidence in princ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for help on man depen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hall die, to dust return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is purposes shall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ppy is the man that choo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rael’s God to be his ai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blest whose hope of bl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 Lord his God is stay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ven and earth the Lord creat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as and all that they conta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delivers from oppress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ghteousness He will maint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od He daily gives the hung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ts the mourning prisoner fr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ises those bowed down with anguis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s the sightless eyes to s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l Jehovah loves the righteo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stranger He befriend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ps the fatherless and wid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dgment on the wicked sen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, praise Jehova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y soul, Jehovah prai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sing the glorious pra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my God through all my day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 all God reigns forev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all ages He is K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to Him, thy God, O Z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ful hallelujahs s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4T00:30:49Z</dcterms:modified>
  <cp:revision>1</cp:revision>
  <dc:subject/>
  <dc:title>Hallelujah, Praise Jehovah ©1982 Darwin Jordan Music. Words: William Kirkpatrick. Music: Darwin Jordan.</dc:title>
</cp:coreProperties>
</file>