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BEE-1754-4141-8BB7-618B9FBF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CBA-5AF0-4FAB-864D-D80A601F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E3C-74D0-44B3-B49F-4333884E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A0B-B828-415C-9F21-5E9C21A4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8D5-9860-4194-861E-4ED6BAFE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BF4-F82E-43D1-8DE8-D5D334DE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1E7-FFBC-40CE-9F33-66B0B95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37D-7270-4BBA-8490-87122F9B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DFE-28DD-4AC4-B5FB-A712E01E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23E-9A8B-47E7-A537-AFBFC6AB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5B4-166A-476C-919B-763B9E3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DF6-4901-4D35-97D1-522A8032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BE78-26A9-4EF3-8C5C-9F7025809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il to the Lord’s Anointe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mes Montgom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ra McCracken   ©2012 Drink Your Tea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omes to break oppress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the captive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ake away transgres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ule in equ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omes in succor spee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ose who suffer wr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lp the poor and need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the weak be str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ive them songs for sigh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darkness turn to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souls, condemned and dy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precious in His s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come down like showe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the fruitful ear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, joy, and hope, like flow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 in His path to bi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to the Lord’s an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David’s greater S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in the time appoint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eign on earth beg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ide of time shall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venant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Name shall stand fore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Name to us is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12:28Z</dcterms:modified>
  <cp:revision>14</cp:revision>
  <dc:subject/>
  <dc:title>By Thy Mercy Words by James J. Cummins Music by Greg Thompson © 2004 Greg Thompson Music</dc:title>
</cp:coreProperties>
</file>