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D79-E337-415C-BA78-D28A6B4A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AAB-744C-4455-8502-35A8355F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4D8-DD7A-4FE6-90F0-470D269E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842-95B1-4515-BF78-AE32C742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B2B-FEE5-41A4-8556-DC4BDD78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D41-88E9-4553-9A6D-F350CE5D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E89-3A23-488B-BF91-9BB92B95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D53-5C15-497E-ABF4-4A8D3103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CC0-88D4-4D47-AC1D-8774E38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E0C-3349-47AC-8094-DD21096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C2B-558D-48BA-A295-13E95C3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B10-94A3-4F5A-9C32-E668FA6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F2CE-0629-4AD5-9C81-E659E56197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il to the Lord’s Anointe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mes Montgom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ra McCracken   ©2012 Drink Your Tea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omes to break oppress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the captive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ake away transgres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ule in equ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omes in succor spee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ose who suffer wr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lp the poor and need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the weak be str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ive them songs for sigh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darkness turn to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souls, condemned and dy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precious in His s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come down like showe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the fruitful ear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, joy, and hope, like flow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 in His path to bi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ide of time shall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venant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Name shall stand fore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Name to us is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12:28Z</dcterms:modified>
  <cp:revision>14</cp:revision>
  <dc:subject/>
  <dc:title>By Thy Mercy Words by James J. Cummins Music by Greg Thompson © 2004 Greg Thompson Music</dc:title>
</cp:coreProperties>
</file>