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646-E593-4B92-A6F4-84EE6809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862-F98F-45A7-8E8A-AEC3984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E17-AD73-4397-992F-5C5FB76E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055-74F1-4082-8101-3733B64C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97C-C7A2-4CF4-ABDD-F895599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D08-B26E-40CF-818B-FB44C00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F2C-F5BF-47F8-89EB-F403977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BA6-7480-4F94-80B1-828AC69C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ED7-DEED-451E-AA27-970B1A5B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8FD-0D5B-4EB8-BDD5-F609960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BC1-390B-440F-9014-CD401A9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BFB-BD26-4EDA-9C9C-46ADDE7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342-778C-4A94-B6B7-CE2F0F9F6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 Me O Thou Great Jehova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2 2037 Music (ASCAP) admin. by The Loving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Williams (alt. Jeremy Casella). Music: Jeremy Cas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Guide me, O Thou great Jehovah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lgrim through this barren l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am weak, but Thou art mighty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d me with Thy powerful h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d of heave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d me now and evermor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d of heave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d me now and everm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76212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Open now the crystal fountai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ce the healing stream doth flow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 the fire and cloudy pil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 me all my journey throug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g Delivere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 Thou still my Strength and Shie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g Delivere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 Thou still my Strength and Shie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When I tread the verge of Jorda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 subsid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ath of deaths, and hell’s destructio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s of praises, I will ever give t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s of praises, I will ever give t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762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, bid my anxiou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, bid my anxiou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rs, goodby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3:11:14Z</dcterms:created>
  <dc:creator>Zachary</dc:creator>
  <dc:description/>
  <dc:language>en-US</dc:language>
  <cp:lastModifiedBy>Zachary</cp:lastModifiedBy>
  <dcterms:modified xsi:type="dcterms:W3CDTF">2013-01-04T22:48:43Z</dcterms:modified>
  <cp:revision>4</cp:revision>
  <dc:subject/>
  <dc:title>Slide 1</dc:title>
</cp:coreProperties>
</file>