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9F5-2C1D-4FBF-ADED-62AB0569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74A-E2F9-4ED1-95FF-E44C25FE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C44-75C0-4CEA-8FD8-B34BE6B3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69E-857E-467F-8499-F691C972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D56-D2AE-46EC-8737-C09A97F3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10A-FD04-4A0F-8AB9-C13486E9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C18-A426-40D6-A514-E8F389FF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7BE-82C8-4AEA-8310-478E8974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948-AD42-40B0-9A5D-2EACA10A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439-5C8B-4439-8ED1-BAFAC0A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CDA-F20C-4D98-B154-49F10E6E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59E-A766-4D44-8039-536DC32F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F04D-FFF3-482F-84F3-A38506A77A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 Me O Thou Great Jehova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2002 2037 Music (ASCAP) admin. by The Loving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illiam Williams (alt. Jeremy Casella). Music: Jeremy Case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Guide me, O Thou great Jehovah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lgrim through this barren la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am weak, but Thou art mighty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ld me with Thy powerful ha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ead of heave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d me now and evermor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ead of heave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d me now and everm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762120"/>
            <a:ext cx="8763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Open now the crystal fountai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ce the healing stream doth flow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 the fire and cloudy pil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ad me all my journey throug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ong Deliverer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 Thou still my Strength and Shie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ong Deliverer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 Thou still my Strength and Shie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7621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When I tread the verge of Jorda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d my anxious fears subsid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ath of deaths, and hell’s destructio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 me safe on Canaan’s si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ngs of praises, I will ever give to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ngs of praises, I will ever give to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76212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 me safe on Canaan’s s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d my anxious fears, bid my anxiou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 me safe on Canaan’s s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d my anxious fears, bid my anxiou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ars, goodby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3:11:14Z</dcterms:created>
  <dc:creator>Zachary</dc:creator>
  <dc:description/>
  <dc:language>en-US</dc:language>
  <cp:lastModifiedBy>Zachary</cp:lastModifiedBy>
  <dcterms:modified xsi:type="dcterms:W3CDTF">2013-01-04T22:48:43Z</dcterms:modified>
  <cp:revision>4</cp:revision>
  <dc:subject/>
  <dc:title>Slide 1</dc:title>
</cp:coreProperties>
</file>