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0C3-6F99-4F78-B1B7-83F7D10A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ED89-E931-4679-8B23-C6AD497A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C37-223A-47B2-8623-4CD891A3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D70-B994-4DF0-BC61-D5BE1A3F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FF3-C369-495B-A88C-F9D121CF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AD6-EB92-4BA7-92BE-E64F66DF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EE3-BFEE-4592-AEB6-FBF568AC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15E-B8A0-47B0-B2B7-DEFAC5CD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8B9-3EA9-4044-AD9F-C6FA5979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848-80C9-4A30-88FE-3B925955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7AE-1121-4BDA-8CBA-44833790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A40-4977-4E90-87FE-4DDD03B9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0F3C-FFB7-4F0A-9963-072FA93052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eat God of Wonders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muel Davies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ura Taylor  ©2001 Laura Taylor Mus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God of wonders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y ways Are matchl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like and divi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 fair glories of Thy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Godlike and unrivalled s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has grace so rich and fre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God of Won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mes of such horror to forg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h guilty, daring worms to sp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Thine grand prerogat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one shall in the honor sha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has grace so rich and fre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God of Won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onder lost, in trembling jo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take the pardon of our Go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don for crimes of deepest dy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ardon bought with Jesus' bloo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has grace so rich and fre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God of Won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y this strang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matchless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Godlike miracle of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the wide earth with grateful pra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e angelic chorus abov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has grace so rich and fre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God of Won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3:00:04Z</dcterms:modified>
  <cp:revision>27</cp:revision>
  <dc:subject/>
  <dc:title>By Thy Mercy Words by James J. Cummins Music by Greg Thompson © 2004 Greg Thompson Music</dc:title>
</cp:coreProperties>
</file>