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6BD-2B65-446B-8BB9-033CCAEB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6FC-1DC3-4CD5-9094-98C88AEE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E7C-3832-43FD-868E-462F59B1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4E4-B121-4305-A628-48944478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6D98-B11E-4248-89A0-A4E05FB5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96F-8C85-46AA-9633-3276BD27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2DB-04A7-4091-BFE5-2B98F110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E61-CCEC-4E44-8D27-E0C0FFB4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B4E-BFE5-4C11-BE10-C40B3834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A47-E594-4A7D-BC62-B37E6640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C5D-F183-4E0A-BB24-4FA8464E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C9C-5C22-4748-A95F-A39F136D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1DA9-3481-4670-B682-32ABCA9AA2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eat God of Wonders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muel Davies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ura Taylor  ©2001 Laura Taylor Mus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 of wonders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y ways Are matchl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like and divi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 fair glories of Thy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Godlike and unrivalled s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has grace so rich and fre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 of Won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mes of such horror to forg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h guilty, daring worms to sp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Thine grand prerogat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one shall in the honor sha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has grace so rich and fre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 of Won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onder lost, in trembling jo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take the pardon of our Go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don for crimes of deepest dy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ardon bought with Jesus' bloo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has grace so rich and fre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 of Won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y this strang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matchless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Godlike miracle of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the wide earth with grateful pra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e angelic chorus abov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has grace so rich and fre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's a pardoning God like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 of Won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3:00:04Z</dcterms:modified>
  <cp:revision>27</cp:revision>
  <dc:subject/>
  <dc:title>By Thy Mercy Words by James J. Cummins Music by Greg Thompson © 2004 Greg Thompson Music</dc:title>
</cp:coreProperties>
</file>