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D7EC-7769-4B8F-9EC9-3AF8A5F0C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0356-E2C2-4D73-BE79-3E95C0696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4972-550C-41BA-A759-FB4BCDDC2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2BF8-437B-4EE3-BE41-281CE5275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A472-AB9A-43D7-86A1-45B982B40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E4D0-E43E-4313-BC3D-62B2464F1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C740-628B-47E7-8316-B9CC44AA7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574E-7024-4444-AE25-B554BB5C4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1C64-C404-4EEE-AF13-593A2582D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A281-BF61-4E6D-A0A2-6D06A9B6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A536-5454-42A0-AA7E-0095557E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3BC6-0CDF-4115-A152-96062AA9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2E70B-3A2C-4CC8-AA1B-E59DE1E7B0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reat God From Thee</a:t>
            </a:r>
            <a:br>
              <a:rPr sz="36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ohn Newton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ic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ustin Smith  ©2007 Justin Smith Musi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eat God from Thee there's nought conceale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seest my inward fra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Thee I always stand revealed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xactly as I 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nce I can hardly therefore bear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n myself I s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vile and dark must I appear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st holy God to The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since my Savior stands betwe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garments dyed in blo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is He instead of me is see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I approach to G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us though a sinner, I am saf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pleads before the thro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life and death in my behalf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calls my sins His ow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wondrous love. What myster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is appointed sh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breaches of the law are Hi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His obedience m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eat God from Thee there's nought conceal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seest my inward fra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Thee I always stand revealed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xactly as I am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wondrous love. What myster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is appointed sh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breaches of the law are Hi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His obedience m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22:57:51Z</dcterms:modified>
  <cp:revision>26</cp:revision>
  <dc:subject/>
  <dc:title>By Thy Mercy Words by James J. Cummins Music by Greg Thompson © 2004 Greg Thompson Music</dc:title>
</cp:coreProperties>
</file>