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C0B-5DB0-438A-9BBE-7FF8B6E3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6E3-3962-4329-9B41-4ED8234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BD8-3CC7-4E76-B166-F5A65C47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47C-A7E9-4A5D-A445-72BAA775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99F-CEDE-4322-8C2E-A5D8AF3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4D3-4FA0-4C6C-A457-0BDCD7D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5C1-8C62-4AD0-AFDA-DBB03F59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27E-9712-4A58-AC74-5428891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D6D-0E02-4388-B890-16700832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BF6-7646-454B-A3A5-FCE3294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1CA-2CCC-45F3-91E8-AF0FE9D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513-B72B-4945-BE40-FDBEB14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EE14-B936-49F0-972B-C48651B4E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eat God From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Newton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stin Smith  ©2007 Justin Smith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from Thee there's nought concea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eest my inward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always stand revea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ctly as I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I can hardly therefore b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n myself I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vile and dark must I app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holy God to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ince my Savior stands betw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arments dyed in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He instead of me is s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approach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though a sinner, I am saf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leads before the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ife and death in my behal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lls my sins His 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. What myst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appointed s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reaches of the law are H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obedience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from Thee there's nought conc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eest my inward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always stand revea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ctly as I 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. What myst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appointed s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reaches of the law are H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obedience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7:51Z</dcterms:modified>
  <cp:revision>26</cp:revision>
  <dc:subject/>
  <dc:title>By Thy Mercy Words by James J. Cummins Music by Greg Thompson © 2004 Greg Thompson Music</dc:title>
</cp:coreProperties>
</file>