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968-F379-4A8B-868E-BA2E0288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E06-768E-4F2B-A6B5-C520F7B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C1E-C045-49FA-919E-894F4A55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4EC-0272-4C8D-A21D-57531283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E44-5606-4C6D-9545-5FD4B1C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116-C8A0-4AAF-9468-E83245A1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33E-FD11-42C0-8A41-BBEF634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1E3-1373-45BE-B2CA-7B4ADE38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3F6-7267-4277-94C0-33793478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4BC-D273-491E-B571-3BBADEC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DE4-52A6-4C2C-AB90-53BF911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CFD-50B1-4174-ABD4-3BC1C2D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22A6-A86C-4A47-B97A-3B6B2FF1506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2C5-96A4-4439-8BB8-C31B922C4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eater Than Our Heart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   © 2009 Detuned Radio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us by your cross ab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, only you, resolv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for sinners crucifi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world to save from endless w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us into your people's re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 from our own works shall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your meek Spirit arm our bre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keep our minds in perfect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for this we calmly wa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our eyes behold you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rry to make our heaven complet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ear, our glorious God, app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Kevin Twit</cp:lastModifiedBy>
  <dcterms:modified xsi:type="dcterms:W3CDTF">2014-08-28T03:37:22Z</dcterms:modified>
  <cp:revision>17</cp:revision>
  <dc:subject/>
  <dc:title>By Thy Mercy Words by James J. Cummins Music by Greg Thompson © 2004 Greg Thompson Music</dc:title>
</cp:coreProperties>
</file>