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2C0-EF79-4712-938C-A2EC7643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D14-00AA-4DDA-A632-FAEBD0AD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E51-C0AB-44A4-9E27-9EB499D4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712-477B-4ABB-BD65-2A03921F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E5A-8B91-4F73-B66F-7040D441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5B0-F973-44D1-A9C8-CA46EDFA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A27-EA85-4533-AB5C-C176B56D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BB5-3570-4678-A367-CA598761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1EA-592E-4E7E-8E70-878BD635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7E7-7FC9-41D1-92E9-E5F0E6B1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732-A344-4B03-8A93-4AC86604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786-1359-49F0-AF6C-F9AEA7DC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7B25-E182-436F-86E4-92EA747D57D1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B499-B0B0-4417-AF48-FFAEBC983F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eater Than Our Heart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Cow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thew Smith   © 2009 Detuned Radio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ho are greater than our hear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make your faithful mercies k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ind of Christ to us im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constant mind in us be sh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et us by your cross abid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, only you, resolved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mb for sinners crucifi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world to save from endless w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ho are greater than our hear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make your faithful mercies k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ind of Christ to us im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constant mind in us be sh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us into your people's re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 from our own works shall c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your meek Spirit arm our brea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keep our minds in perfect 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ho are greater than our hear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make your faithful mercies k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ind of Christ to us im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constant mind in us be sh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for this we calmly wai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et our eyes behold you n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urry to make our heaven complet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ear, our glorious God, app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ho are greater than our hear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make your faithful mercies k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ind of Christ to us im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constant mind in us be sh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Kevin Twit</cp:lastModifiedBy>
  <dcterms:modified xsi:type="dcterms:W3CDTF">2014-08-28T03:37:22Z</dcterms:modified>
  <cp:revision>17</cp:revision>
  <dc:subject/>
  <dc:title>By Thy Mercy Words by James J. Cummins Music by Greg Thompson © 2004 Greg Thompson Music</dc:title>
</cp:coreProperties>
</file>