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D49AD-7B41-4F10-A41E-C9D6D4651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266C4-A79C-4C38-8E30-B8FEC24C9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46CEC-DADE-49A8-B5B3-A4F6A9052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15AB1-4C8D-44CB-B740-82BE840E0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B5A62-24F0-48A7-9A24-23B5C913A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971D1-EDFF-42EE-89D7-9351B44DE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FCD1E-A9EC-45A5-815D-A48CF7C27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E820F-3203-4B08-8165-58BD70D78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99F6B-579A-405F-AC09-895A94FE0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96468-322A-4331-B339-A093E3FF3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F9FA4-0015-4ED0-AA57-9B3CEC81B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A6725-E54A-414D-953B-9F767A8FD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C300D-CCDB-4465-87FF-8468BFA729A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Gracious Savior</a:t>
            </a:r>
            <a:br>
              <a:rPr sz="36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ords: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Jane Leeson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usic: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hris Miner  ©1997 Christopher Miner Musi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arvelous grace of our loving Lord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Grace that exceeds our sin and our guilt!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Yonder on Calvary's mount outpoured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re where the blood of the Lamb was spilled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ender Shepherd, never leave them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rom Thy fold to go astray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y Thy look of love directed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ay they walk the narrow way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us direct them, and protect the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est they fall an easy pre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et Thy holy Word instruct them: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ll their minds with heav'nly light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et Thy love and grace constrain the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o approve what e'er is right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ake Thine easy yoke and wear it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to prove Thy burden light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eanse their hearts from sinful foll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 the stream Thy love supplied;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ingled streams of blood and water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lowing from Thy wounded side: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to heav'nly pastures lead them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ere Thine own still waters glid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4T01:02:06Z</dcterms:created>
  <dc:creator>Zachary</dc:creator>
  <dc:description/>
  <dc:language>en-US</dc:language>
  <cp:lastModifiedBy>Zachary</cp:lastModifiedBy>
  <dcterms:modified xsi:type="dcterms:W3CDTF">2013-01-04T22:56:06Z</dcterms:modified>
  <cp:revision>25</cp:revision>
  <dc:subject/>
  <dc:title>By Thy Mercy Words by James J. Cummins Music by Greg Thompson © 2004 Greg Thompson Music</dc:title>
</cp:coreProperties>
</file>