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8B1-BF1D-4E29-A00E-CDAF0BD0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98F-CF24-4ED7-976F-275F9F72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190-C191-423B-A4E3-F1485227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CF7-B71D-4A60-9EF3-8CFB910C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D7D-BCB3-4380-BB4B-5F60AEFC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3E1-F4A5-4A69-A401-B66B2FE2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1AB-10D5-4001-94ED-5DDFBA31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769-AE42-4A14-AA57-0C532B4E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D43-3F82-42B1-B8B0-E8A6AD57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13F-99A5-4DF2-91DD-7A4CA074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BF9-0248-42AA-BCB4-176530C7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5E2-0EF0-4C78-AB45-C8DF8CEB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3459-1F24-4D36-880B-0019EAB197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acious Savior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ne Leeson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is Miner  ©1997 Christopher Miner Mus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velous grace of our loving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exceeds our sin and our guilt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nder on Calvary's mount outpour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where the blood of the Lamb was spill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Shepherd, never leave the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y fold to go astr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look of love direc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ey walk the narrow w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s direct them, and protect t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t they fall an easy pr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y holy Word instruct them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their minds with heav'nly l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y love and grace constrain t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approve what e'er is r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Thine easy yoke and wear 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prove Thy burden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eanse their hearts from sinful fo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tream Thy love supplie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ngled streams of blood and wat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ing from Thy wounded sid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heav'nly pastures lead the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Thine own still waters g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56:06Z</dcterms:modified>
  <cp:revision>25</cp:revision>
  <dc:subject/>
  <dc:title>By Thy Mercy Words by James J. Cummins Music by Greg Thompson © 2004 Greg Thompson Music</dc:title>
</cp:coreProperties>
</file>