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DD2-A54C-4D6D-987A-E6390EB4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C16-3F18-4E5C-800C-376B13E9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BA9-1069-448A-B246-D275629F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3E7-7AE1-4E02-9299-9E37597E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1B5-FA9C-4A5D-8EAE-7A457ADE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421-93ED-466F-999F-B52369DB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96D-0CFF-4D61-A80E-7EC743E1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5ED-531D-4E09-9C35-91FA7011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87E-4F48-4C42-A450-566D714A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D85-1180-447B-B40D-CD087B0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61E-6DED-47D9-82C7-DC26E181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AC3-6366-459F-8375-E0FE39D2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70D5-97F8-4C76-94E1-F7C058216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ce Greater Than Our Si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lia Johnstone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niel Towner   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velous grace of our loving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exceeds our sin and our guilt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nder on Calvary's mount outpour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here the blood of the Lamb was spill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will pardon and cleans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 than all our si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 and despair, like the sea waves c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aten the soul with infinite lo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, yes, grace unt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ints to the refuge, the mighty cros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will pardon and cleans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 than all our si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 is the stain that we cannot hid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avail to wash it aw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! There is flowing a crimson t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er than snow you may be toda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will pardon and cleans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 than all our si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velous, infinite, matchless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ly bestowed on all who believ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that are longing to see His f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you this moment His grace receiv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will pardon and cleans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, grace, God'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that is greater than all our si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4:21Z</dcterms:modified>
  <cp:revision>23</cp:revision>
  <dc:subject/>
  <dc:title>By Thy Mercy Words by James J. Cummins Music by Greg Thompson © 2004 Greg Thompson Music</dc:title>
</cp:coreProperties>
</file>