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05DA-64E9-4B83-82A2-F3FDC228A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18B7-1441-477E-B217-E3D60DBA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B6A7-764A-48AA-A3EC-A440C6550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4F7F-CD1A-4C94-A615-81C939396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3287-8C71-4C31-9432-699D3D82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CB06-D577-4E87-9721-AF14C2CC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3B1F-7B10-4866-BE01-93DD0819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BB2E-6098-44CB-9648-44ABA49F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AF03-2939-4426-B2EB-E15C772C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EA87-677A-4B5A-B4A1-1CEF98EB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495D-FDF0-45FD-8041-497CB35C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4150-4C70-4D57-A952-C3F7E0EA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1773-3431-4430-8827-59C051C1DB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ace Greater Than Our Sin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ulia Johnstone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niel Towner   Public Doma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velous grace of our loving Lor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ce that exceeds our sin and our guilt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nder on Calvary's mount outpour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where the blood of the Lamb was spill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ce, grace, God's gr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ce that will pardon and cleanse with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ce, grace, God's gr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ce that is greater than all our si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n and despair, like the sea waves col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eaten the soul with infinite los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ce that is greater, yes, grace untol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ints to the refuge, the mighty cros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ce, grace, God's gr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ce that will pardon and cleanse with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ce, grace, God's gr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ce that is greater than all our si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rk is the stain that we cannot hid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can avail to wash it awa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ok! There is flowing a crimson tid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ter than snow you may be today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ce, grace, God's gr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ce that will pardon and cleanse with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ce, grace, God's gr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ce that is greater than all our si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velous, infinite, matchless gra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eely bestowed on all who believe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that are longing to see His fac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ll you this moment His grace receiv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ce, grace, God's gr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ce that will pardon and cleanse with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ce, grace, God's gr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ce that is greater than all our si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2:54:21Z</dcterms:modified>
  <cp:revision>23</cp:revision>
  <dc:subject/>
  <dc:title>By Thy Mercy Words by James J. Cummins Music by Greg Thompson © 2004 Greg Thompson Music</dc:title>
</cp:coreProperties>
</file>