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4B0-4E36-49C7-BE18-A6083545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02A-3F1C-4693-AA40-5E8805A9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A50D-378E-4428-A364-709219B7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31EC-7ED0-436E-B071-F174DD0C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773C-4BD5-4B2B-BE30-29F48B3A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09C5-D862-4D7A-AC13-147A4B2B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CE9-CEBF-4064-97A5-DB83B0FF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615-A9B0-4A16-84AC-1E8CC42E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466-E3A7-4899-A691-B32437D6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22E-2FBF-44C1-94BF-208C801E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4D4-9E9F-410A-AB6B-40E294D6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240-4710-4587-9E71-706C00D7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04FB-D74B-4103-90F5-90362945E9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 To Dark Gethsemane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 by James Montgomery, Music by Kevin Twit. © 2007 Kevin Twit Music (ASCA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 to dark Gethsema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that feel the tempter’s 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Redeemer’s conflict s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ch with Him one bitter ho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rn not from His griefs aw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rn of Jesus Christ to p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rn of Jesus Christ to pray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rn of Jesus Christ to p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Him at the judgment ha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ten, bound, reviled, arraign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e wormwood and the gal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e pangs His soul sustain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un not suffering, shame, or los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rn of Christ to bear the cr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rn of Christ to bear the cross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rn of Christ to bear the cro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lvary's mournful mountain climb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, adoring at His f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 that miracle of tim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's own sacrifice comple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It is finished!" hear Him cry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rn of Jesus Christ to d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rn of Jesus Christ to d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ly hasten to the tom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they laid His breathless cl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s solitude and gloo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has taken Him aw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is risen! He meets our eye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teach us so to 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teach us so to ris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teach us so to r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3:07Z</dcterms:created>
  <dc:creator>Zachary</dc:creator>
  <dc:description/>
  <dc:language>en-US</dc:language>
  <cp:lastModifiedBy>Zachary</cp:lastModifiedBy>
  <dcterms:modified xsi:type="dcterms:W3CDTF">2013-01-04T00:55:02Z</dcterms:modified>
  <cp:revision>1</cp:revision>
  <dc:subject/>
  <dc:title>Go To Dark Gethsemane Words by James Montgomery, Music by Kevin Twit. © 2007 Kevin Twit Music (ASCAP)</dc:title>
</cp:coreProperties>
</file>