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D863-0BCF-4D9F-A5AD-2EEB2DCF9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5A5B-91CA-48C7-B3C7-987188DA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91B6-9FFA-409D-B6B0-710DFFD42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67E4-6FEA-4022-B9F6-6DE94CEC5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EB95-FC56-4385-952B-DB4F0DCD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2744-B60C-4746-8A76-02D1B64F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302D-346A-4E97-A40C-14F532CA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B5EB-B04B-4028-BE97-FB4FA081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D10B-644F-4B93-9344-DAB2EE27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6FE5-10F9-42E0-9CD8-A10576DE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F1E3-62CC-4CF3-A359-65B29EF3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7A9F-284E-4584-93B0-CE29B54F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CFFA-E6AD-449E-9DF7-CF65B21A78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o To Dark Gethsemane</a:t>
            </a:r>
            <a:br>
              <a:rPr sz="40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s by James Montgomery, Music by Kevin Twit. © 2007 Kevin Twit Music (ASCAP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 to dark Gethsema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 that feel the tempter’s po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Redeemer’s conflict s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tch with Him one bitter hou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urn not from His griefs awa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rn of Jesus Christ to p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rn of Jesus Christ to pray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rn of Jesus Christ to p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e Him at the judgment hal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aten, bound, reviled, arraign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the wormwood and the gall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the pangs His soul sustaine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un not suffering, shame, or los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rn of Christ to bear the cro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rn of Christ to bear the cross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rn of Christ to bear the cro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lvary's mournful mountain climb;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, adoring at His f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k that miracle of time,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's own sacrifice comple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It is finished!" hear Him cry;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rn of Jesus Christ to di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rn of Jesus Christ to di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rly hasten to the tom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they laid His breathless cl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is solitude and gloo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has taken Him awa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rist is risen! He meets our eye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vior, teach us so to r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vior, teach us so to rise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vior, teach us so to ri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3:07Z</dcterms:created>
  <dc:creator>Zachary</dc:creator>
  <dc:description/>
  <dc:language>en-US</dc:language>
  <cp:lastModifiedBy>Zachary</cp:lastModifiedBy>
  <dcterms:modified xsi:type="dcterms:W3CDTF">2013-01-04T00:55:02Z</dcterms:modified>
  <cp:revision>1</cp:revision>
  <dc:subject/>
  <dc:title>Go To Dark Gethsemane Words by James Montgomery, Music by Kevin Twit. © 2007 Kevin Twit Music (ASCAP)</dc:title>
</cp:coreProperties>
</file>