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8E6-6378-419D-B846-B2BF7BC0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B2A-BF59-4F50-A78D-BDD9893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CCE-02B0-4566-BB3F-20768B6A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A76-5966-41B4-98BD-D48838D2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1C5-D216-4E70-90E0-A2ED1BA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A86-0DAF-4B00-A419-19A6583F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373-E26E-485B-902A-BF692517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242-3366-46A1-850D-B25F1FE6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028-3CD9-4F9D-8971-E06D35FE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724-F9A8-4782-ABB3-CB4B958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F6F-052F-4268-A380-565BCDD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FD7-CAF9-4883-B0F1-CC9C86D8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47ED-AB39-4225-8CC5-123E1DE7DD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d Moves in a Mysterious Way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remy Casella   © 2009 Saint &amp; Pilgrim Songs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moves in a mysterious 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wonders to perfor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plants his footsteps on the se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ides upon the stor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fearful saints fresh courage tak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louds you so much dr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big with mercy, and shall break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blessings on your hea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dge not the Lord by feeble sen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rust him for his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ind a frowning providen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ides a smiling fa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urposes will ripen f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folding every ho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ud may have a bitter tast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weet will be the fl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ind unbelief is sure to er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can His work in vain.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s His own interpret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will make it pl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05:16Z</dcterms:modified>
  <cp:revision>15</cp:revision>
  <dc:subject/>
  <dc:title>By Thy Mercy Words by James J. Cummins Music by Greg Thompson © 2004 Greg Thompson Music</dc:title>
</cp:coreProperties>
</file>