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AB4-E929-4D6D-BFAF-96185449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8A4-3FCC-4FD8-BFF7-D7C9AFEF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DA9-E878-400B-B44B-B0CD837A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539-4BA7-463F-BA0B-6A19D4C6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34E-E365-4043-897A-C824058C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6BD-3B0D-473B-A82D-3B618282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744-BEBF-4455-9273-5B11D5B7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59B-C996-43AE-ADE0-6DFB5E6D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DF5-F596-460F-A33F-3A54B633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185-7CB4-460D-8BA6-7D78FFC6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AC6-270E-4FB6-9F4D-9A013E11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629-6208-4691-BF8C-2EE3ADF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84FD-70E3-4923-B9AF-D27E714650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d Moves in a Mysterious Way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remy Casella   © 2009 Saint &amp; Pilgrim Songs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moves in a mysterious 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wonders to perfor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plants his footsteps on the se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ides upon the stor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fearful saints fresh courage tak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louds you so much dre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big with mercy, and shall break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blessings on your hea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dge not the Lord by feeble sen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rust him for his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ind a frowning providen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ides a smiling fa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urposes will ripen f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folding every ho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ud may have a bitter tast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weet will be the fl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ind unbelief is sure to er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can His work in vain.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s His own interpret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will make it pl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05:16Z</dcterms:modified>
  <cp:revision>15</cp:revision>
  <dc:subject/>
  <dc:title>By Thy Mercy Words by James J. Cummins Music by Greg Thompson © 2004 Greg Thompson Music</dc:title>
</cp:coreProperties>
</file>