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0BE-A15D-4F16-AA0C-7297F425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7DC-0FA6-4652-812B-65886D3B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0B3-B673-4A08-822D-6DEFCDFB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834-9F5E-42A2-B715-BCE0F338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1B0-D78B-461B-B3FB-C415F035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29F-B04F-4A39-8EF0-65E8F6D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22F-1300-4148-BF67-2F6343A1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C50-664E-4943-ABE4-99C166FA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CBE-F73F-4184-B23B-82C4AFAA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32C-B74E-4959-B803-04CB43CC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537-3E60-4569-A8FC-51C142B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DD0-352D-4363-8BB4-8B52C96B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621F-8A87-4556-B338-48572EC4ED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d, Be Merciful to Me</a:t>
            </a:r>
            <a:br>
              <a:rPr sz="4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1997 Christopher Miner Music. Words: Richard Redhead. Music: Christopher Min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God, be merciful to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y grace I rest my pl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nteous in compassion Th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t out my transgressions 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 me, make me pure with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eanse, O cleanse me from my s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My transgressions I confe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ief and guilt my soul opp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sinned against Thy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ovoked Thee to Thy f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nfess Thy judgement ju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echless, I Thy mercy tru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600" spc="-1" strike="noStrike">
                <a:solidFill>
                  <a:srgbClr val="ffffff"/>
                </a:solidFill>
                <a:latin typeface="Arial"/>
              </a:rPr>
              <a:t>3. I am evil, born in s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desirest truth with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lone my Savior 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Thy wisdom to my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e pure, Thy grace best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 me whiter than the s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Broken, humbled to the d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wrath and judgment ju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contrite heart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gladness hear Thy voi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my sins O hide Thy f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t them out in boundless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Gracious God, my heart rene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y spirit right and tr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t me not away from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y Spirit dwell in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alvation’s joy im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adfast make my willing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Sinners then shall learn from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eturn, O God,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 all my guilt rem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tongue shall sing Th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uch my silent lips, O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mouth shall praise acc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7:15Z</dcterms:created>
  <dc:creator>Zachary</dc:creator>
  <dc:description/>
  <dc:language>en-US</dc:language>
  <cp:lastModifiedBy>Zachary</cp:lastModifiedBy>
  <dcterms:modified xsi:type="dcterms:W3CDTF">2013-01-04T01:17:51Z</dcterms:modified>
  <cp:revision>1</cp:revision>
  <dc:subject/>
  <dc:title>God, Be Merciful to Me ©1997 Christopher Miner Music. Words: Richard Redhead. Music: Christopher Miner.</dc:title>
</cp:coreProperties>
</file>