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2FE-1679-454D-8481-72DEA6EE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350-C276-40D2-A6C5-269542E2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648-4BDA-4E4C-86AF-715B4911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8FC-D531-4311-BBDF-A95E534C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422-78C6-4DE2-AE55-74ED7AA5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E3F-A728-4250-99ED-FFCED633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B72-38F9-47CA-B1F5-BBD0AC2F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3D1-24E3-4B8A-8B15-3C961F95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C37-FCC5-453B-94A0-461E93D1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E7B-1D9C-42EA-A04E-3E3D513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9F6-822C-488D-9BC6-C5276F31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6AA-6067-4F20-B75D-5313B5BC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00D4-DA2B-4663-A813-D8993A29EF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d, Be Merciful to Me</a:t>
            </a:r>
            <a:br>
              <a:rPr sz="44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1997 Christopher Miner Music. Words: Richard Redhead. Music: Christopher Min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God, be merciful to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y grace I rest my pl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nteous in compassion Th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t out my transgressions n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 me, make me pure with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eanse, O cleanse me from my s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My transgressions I confe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ief and guilt my soul oppr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sinned against Thy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rovoked Thee to Thy f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nfess Thy judgement ju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echless, I Thy mercy tru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600" spc="-1" strike="noStrike">
                <a:solidFill>
                  <a:srgbClr val="ffffff"/>
                </a:solidFill>
                <a:latin typeface="Arial"/>
              </a:rPr>
              <a:t>3. I am evil, born in s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desirest truth with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lone my Savior 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Thy wisdom to my he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me pure, Thy grace best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 me whiter than the s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Broken, humbled to the d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wrath and judgment ju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contrite heart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gladness hear Thy voi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my sins O hide Thy f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t them out in boundless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Gracious God, my heart rene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my spirit right and tr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st me not away from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y Spirit dwell in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alvation’s joy imp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adfast make my willing he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Sinners then shall learn from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eturn, O God,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 all my guilt rem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 tongue shall sing Thy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uch my silent lips, O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 mouth shall praise acc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17:15Z</dcterms:created>
  <dc:creator>Zachary</dc:creator>
  <dc:description/>
  <dc:language>en-US</dc:language>
  <cp:lastModifiedBy>Zachary</cp:lastModifiedBy>
  <dcterms:modified xsi:type="dcterms:W3CDTF">2013-01-04T01:17:51Z</dcterms:modified>
  <cp:revision>1</cp:revision>
  <dc:subject/>
  <dc:title>God, Be Merciful to Me ©1997 Christopher Miner Music. Words: Richard Redhead. Music: Christopher Miner.</dc:title>
</cp:coreProperties>
</file>